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546360" y="6210360"/>
            <a:ext cx="174636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513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987640" y="549360"/>
            <a:ext cx="3097080" cy="1031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broj_clanova.xls" TargetMode="External"/><Relationship Id="rId2" Type="http://schemas.openxmlformats.org/officeDocument/2006/relationships/hyperlink" Target="file:///aktivnosti_2005_2006.xls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ee.org/web/geo_activities/rab/scs/" TargetMode="External"/><Relationship Id="rId2" Type="http://schemas.openxmlformats.org/officeDocument/2006/relationships/hyperlink" Target="http://www.ieee.org/web/geo_activities/rab/scs/Chapters/" TargetMode="External"/><Relationship Id="rId3" Type="http://schemas.openxmlformats.org/officeDocument/2006/relationships/hyperlink" Target="http://www.ieee.org/web/geo_activities/rab/scs/Affinity_Groups/" TargetMode="External"/><Relationship Id="rId4" Type="http://schemas.openxmlformats.org/officeDocument/2006/relationships/hyperlink" Target="http://tinyurl.com/gqods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eee.org/portal/pages/tab/cha/lectweb2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eee.org/L31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hapterContest.doc" TargetMode="External"/><Relationship Id="rId2" Type="http://schemas.openxmlformats.org/officeDocument/2006/relationships/hyperlink" Target="file:///ChapterContest_EMC.doc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crefguide.pdf" TargetMode="External"/><Relationship Id="rId2" Type="http://schemas.openxmlformats.org/officeDocument/2006/relationships/hyperlink" Target="file:///job_description_chapter_chair.doc" TargetMode="External"/><Relationship Id="rId3" Type="http://schemas.openxmlformats.org/officeDocument/2006/relationships/hyperlink" Target="file:///job_description_affinity_group_chair.doc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9280" y="22492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Sastanak predsjednika odjela</a:t>
            </a:r>
            <a:br>
              <a:rPr sz="3600"/>
            </a:b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i interesnih skupina</a:t>
            </a:r>
            <a:br>
              <a:rPr sz="3600"/>
            </a:b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Hrvatske sekcije IEE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05080" y="4678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66"/>
                </a:solidFill>
                <a:latin typeface="Arial"/>
              </a:rPr>
              <a:t>Zagreb, 22. ožujka 2007.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egled odjela i interesnih skupin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964720" cy="521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i interesne skupine Hrvatske sekcije IEE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ukupno odjela/skupin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5 zajedničkih odjela (4 u HR i 1 međuregionalni u razdvajanju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11 samostalnih odjel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1 interesna skupin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gled broja članova po odjeli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zajednički odjeli - razmotriti razdvajanje na samostalne odje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ovi odjeli - moguće osnivanje RL0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ova interesna skupina - moguće osnivanje LM 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gled aktivnosti u 2005. i 2006. godin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Society-Section-Chapter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28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(</a:t>
            </a:r>
            <a:r>
              <a:rPr b="0" i="1" lang="hr-HR" sz="2400" spc="-1" strike="noStrike">
                <a:solidFill>
                  <a:srgbClr val="000066"/>
                </a:solidFill>
                <a:latin typeface="Arial"/>
              </a:rPr>
              <a:t>Chapters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 okupljaju članove nekog društva koji se nalaze u nekom geografskom području (npr. unutar neke sekcij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 ima dva roditelj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ekciju (s obzirom na geografski položaj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ruštvo (s obzirom na profesionalni intere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 sekcija i društvo pomaže odjelu u njegovim aktivnosti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501920"/>
            <a:ext cx="7583400" cy="4519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Organiziranje rada odjela i interesne 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rganizacijska struktura unutar IEEE-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589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508640"/>
            <a:ext cx="1368360" cy="93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013360"/>
            <a:ext cx="194472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5084640"/>
            <a:ext cx="1944720" cy="93672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4869000"/>
            <a:ext cx="1297080" cy="1009440"/>
          </a:xfrm>
          <a:prstGeom prst="ellipse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788000" y="692280"/>
            <a:ext cx="417672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92280"/>
            <a:ext cx="446400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4653000"/>
            <a:ext cx="7056720" cy="431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924280"/>
            <a:ext cx="6408720" cy="50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906480"/>
            <a:ext cx="48355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gional Activ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p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finity group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 Bran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udent Chapt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udent Affinity Group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4600" y="906480"/>
            <a:ext cx="4038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chnical Activ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i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cie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p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udent Chapt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4440" y="1311120"/>
            <a:ext cx="1752480" cy="60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440" y="1311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Activities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7520" y="1996920"/>
            <a:ext cx="1600200" cy="1067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67520" y="207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nts - WIE, Consultants, GOLD, 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10320" y="37497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905600" y="3063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7600" y="199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7600" y="374976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7600" y="3597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0" y="4968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05600" y="352116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10320" y="48927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0400" y="3063960"/>
            <a:ext cx="16002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EE Socie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62000" y="1297440"/>
            <a:ext cx="5562360" cy="3747240"/>
            <a:chOff x="1962000" y="1297440"/>
            <a:chExt cx="5562360" cy="3747240"/>
          </a:xfrm>
        </p:grpSpPr>
        <p:cxnSp>
          <p:nvCxnSpPr>
            <p:cNvPr id="129" name="_s101393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157000" y="4101480"/>
              <a:ext cx="175680" cy="100188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2" name="_s101394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4154040" y="4100040"/>
              <a:ext cx="175680" cy="100512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4" name="_s101395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358600" y="2841480"/>
              <a:ext cx="705240" cy="1934640"/>
            </a:xfrm>
            <a:prstGeom prst="bentConnector3">
              <a:avLst>
                <a:gd name="adj1" fmla="val 16138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7" name="_s101396"/>
            <p:cNvCxnSpPr>
              <a:stCxn id="131" idx="0"/>
              <a:endCxn id="136" idx="2"/>
            </p:cNvCxnSpPr>
            <p:nvPr/>
          </p:nvCxnSpPr>
          <p:spPr>
            <a:xfrm flipV="1">
              <a:off x="4744440" y="3456360"/>
              <a:ext cx="2160" cy="7052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8" name="_s101397"/>
            <p:cNvCxnSpPr>
              <a:stCxn id="139" idx="0"/>
              <a:endCxn id="136" idx="2"/>
            </p:cNvCxnSpPr>
            <p:nvPr/>
          </p:nvCxnSpPr>
          <p:spPr>
            <a:xfrm flipH="1" flipV="1" rot="5400000">
              <a:off x="3424320" y="2841480"/>
              <a:ext cx="705240" cy="1935000"/>
            </a:xfrm>
            <a:prstGeom prst="bentConnector3">
              <a:avLst>
                <a:gd name="adj1" fmla="val 16138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0" name="_s101398"/>
            <p:cNvCxnSpPr>
              <a:stCxn id="141" idx="1"/>
              <a:endCxn id="136" idx="2"/>
            </p:cNvCxnSpPr>
            <p:nvPr/>
          </p:nvCxnSpPr>
          <p:spPr>
            <a:xfrm rot="10800000">
              <a:off x="4743720" y="3455640"/>
              <a:ext cx="238680" cy="352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2" name="_s101399"/>
            <p:cNvCxnSpPr>
              <a:stCxn id="143" idx="3"/>
              <a:endCxn id="136" idx="2"/>
            </p:cNvCxnSpPr>
            <p:nvPr/>
          </p:nvCxnSpPr>
          <p:spPr>
            <a:xfrm flipV="1">
              <a:off x="4502160" y="3455640"/>
              <a:ext cx="242280" cy="352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4" name="_s101400"/>
            <p:cNvCxnSpPr>
              <a:stCxn id="136" idx="0"/>
              <a:endCxn id="145" idx="2"/>
            </p:cNvCxnSpPr>
            <p:nvPr/>
          </p:nvCxnSpPr>
          <p:spPr>
            <a:xfrm flipV="1">
              <a:off x="4744440" y="2394720"/>
              <a:ext cx="2160" cy="7070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6" name="_s101401"/>
            <p:cNvCxnSpPr>
              <a:stCxn id="147" idx="3"/>
              <a:endCxn id="145" idx="2"/>
            </p:cNvCxnSpPr>
            <p:nvPr/>
          </p:nvCxnSpPr>
          <p:spPr>
            <a:xfrm flipV="1">
              <a:off x="4502160" y="2394360"/>
              <a:ext cx="242280" cy="355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8" name="_s101402"/>
            <p:cNvCxnSpPr>
              <a:stCxn id="145" idx="0"/>
              <a:endCxn id="149" idx="2"/>
            </p:cNvCxnSpPr>
            <p:nvPr/>
          </p:nvCxnSpPr>
          <p:spPr>
            <a:xfrm flipH="1" flipV="1" rot="5400000">
              <a:off x="4801320" y="1807560"/>
              <a:ext cx="175680" cy="29016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49" name="_s101403"/>
            <p:cNvSpPr/>
            <p:nvPr/>
          </p:nvSpPr>
          <p:spPr>
            <a:xfrm>
              <a:off x="4022640" y="1297440"/>
              <a:ext cx="2022480" cy="5677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ional Activities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1404"/>
            <p:cNvSpPr/>
            <p:nvPr/>
          </p:nvSpPr>
          <p:spPr>
            <a:xfrm>
              <a:off x="4022640" y="2041920"/>
              <a:ext cx="143928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1405"/>
            <p:cNvSpPr/>
            <p:nvPr/>
          </p:nvSpPr>
          <p:spPr>
            <a:xfrm>
              <a:off x="3063240" y="2571840"/>
              <a:ext cx="143928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1406"/>
            <p:cNvSpPr/>
            <p:nvPr/>
          </p:nvSpPr>
          <p:spPr>
            <a:xfrm>
              <a:off x="4022640" y="3101760"/>
              <a:ext cx="143928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1407"/>
            <p:cNvSpPr/>
            <p:nvPr/>
          </p:nvSpPr>
          <p:spPr>
            <a:xfrm>
              <a:off x="2808360" y="3631680"/>
              <a:ext cx="169380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p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1408"/>
            <p:cNvSpPr/>
            <p:nvPr/>
          </p:nvSpPr>
          <p:spPr>
            <a:xfrm>
              <a:off x="4982400" y="3631680"/>
              <a:ext cx="1694160" cy="35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ff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finity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1409"/>
            <p:cNvSpPr/>
            <p:nvPr/>
          </p:nvSpPr>
          <p:spPr>
            <a:xfrm>
              <a:off x="1962000" y="4161600"/>
              <a:ext cx="169416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-S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1410"/>
            <p:cNvSpPr/>
            <p:nvPr/>
          </p:nvSpPr>
          <p:spPr>
            <a:xfrm>
              <a:off x="3896280" y="4161600"/>
              <a:ext cx="169416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udent Branch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1411"/>
            <p:cNvSpPr/>
            <p:nvPr/>
          </p:nvSpPr>
          <p:spPr>
            <a:xfrm>
              <a:off x="5830560" y="4161600"/>
              <a:ext cx="169380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1412"/>
            <p:cNvSpPr/>
            <p:nvPr/>
          </p:nvSpPr>
          <p:spPr>
            <a:xfrm>
              <a:off x="2856600" y="4691520"/>
              <a:ext cx="176616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 Chap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1413"/>
            <p:cNvSpPr/>
            <p:nvPr/>
          </p:nvSpPr>
          <p:spPr>
            <a:xfrm>
              <a:off x="4862520" y="4691520"/>
              <a:ext cx="1765800" cy="35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 Affinity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47600" y="1920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omoć odjelima/skupinam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27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vako društvo ima planirana sredstva za pomoć odjelim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jednokratna pomoć novim odjelima (neka društv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omoć za organizaciju aktivnosti (radionice, itd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Hrvatska sekcija IEEE raspolaže sa sredstvima za pomoć odjelima/skupinam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jednokratna pomoć novim odjelim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omoć za organizaciju aktivnosti (radionice, itd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Web-stranice odjela/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www.ieee.hr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vaki odjel/skupina ima svoju službenu stranic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983280" cy="42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480" y="3887640"/>
            <a:ext cx="1271520" cy="234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Web-stranice odjela/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vaki predsjednik odjela/skupine može samostalno uređivati stranicu svojeg odjela/skup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"/>
              </a:rPr>
              <a:t>web-administrator: Luka Lugaric (llugaric@ieee.or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Arial"/>
              </a:rPr>
              <a:t>obavijesti o predavanjima, susretima i sl. molimo objavljivati na stranici odjela/skupine, kao i na naslovnoj web-stranici Hrvatske sekcije IE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tvorena je i nova stranica "Konferencije" - voditelji odjela/skupina mole se da pregledaju stranicu te pošalju svoje komentare, sugestije i sl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Mailing-lista sekcij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44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edsjednici odjela/skupina trebaju slati obavijesti o aktivnostima odjela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vim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članovima sekcij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mailing-lista sekcije nedavno je osvježena s najnovijim podacima iz SAMIEEE baze podatak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bavijesti o predavanjima šalju s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va tjedna prije predavanj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u ponedjeljak u tjednu predavanj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vaki predsjednik odjela/skupine bit će autoriziran da šalje obavije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adresa: ieee_croatia@branka.zesoi.fer.h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u slučaju problema s autorizacijom obratiti se Svenu Lončarić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Korisne poveznic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40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nformacije o radu odjela</a:t>
            </a:r>
            <a:br>
              <a:rPr sz="2400"/>
            </a:b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ee.org/web/geo_activities/rab/scs/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za odjele odaberite "Chapters"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eee.org/web/geo_activities/rab/scs/Chapters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za interesne skupine odaberite "Affinity Groups"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eee.org/web/geo_activities/rab/scs/Affinity_Groups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a istoj web-stranici pod "Officer Training" - "Officer Job Descriptions":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inyurl.com/gqods</a:t>
            </a:r>
            <a:br>
              <a:rPr sz="2400"/>
            </a:b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d "Subunits" nalaze se korisne informacije za predsjednike odjela, kao i za predsjednike interesnih skupin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ogram sastank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898560"/>
            <a:ext cx="8713800" cy="25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gled aktivnosti odjela i interesnih skupin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ako uspješno organizirati rad odjela i interesne skupin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pter Chair Reference Guide: Pregled i diskusij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zbor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u odjelima i interesnim skupina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aniranje i diskusija aktivnosti odjela i interesnih skupina za 2007. godin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25239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Kako uspješno organizirati rad odjela i interesne skupin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Organiziranje rada odjela i interesne 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50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aktivnosti odjela i interesnih skupina predstavljaju za naše članove temeljno djelovanje IEEE-a i zbog toga imaju veliki značaj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i interesne skupine donose novu dimenziju sekciji kroz poticanje interesa članova u određenim specifičnim područji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ovezivanje članova s istim tehničkim interes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vođenje odjela prepušteno je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volonterim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nteresna skupin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ne-tehnička skupin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ovezivanje članova sa zajedničkim širim i općim interesim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vođenje interesnih skupina prepušteno je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volonterim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Organiziranje rada odjela i interesne 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25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osnovna aktivnost koju bi svaki odjel i interesna skupina trebao imati je organizacija redovitih sastanaka članova odjela i interesnih skupina s pozvanim predavanjima i druženjem člano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obro organizirani odjeli i interesne skupine u svijetu održavaju takve sastanke jednom mjesečno, no alternativno može se to raditi i dvomjesečn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Organiziranje rada odjela i interesne 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53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lanirajte i predavače iz </a:t>
            </a:r>
            <a:r>
              <a:rPr b="0" i="1" lang="hr-HR" sz="2400" spc="-1" strike="noStrike">
                <a:solidFill>
                  <a:srgbClr val="ff0000"/>
                </a:solidFill>
                <a:latin typeface="Arial"/>
              </a:rPr>
              <a:t>IEEE Distinguished Lecturer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(DL) program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koji ima svako IEEE društvo (</a:t>
            </a:r>
            <a:r>
              <a:rPr b="0" i="1" lang="hr-HR" sz="2400" spc="-1" strike="noStrike">
                <a:solidFill>
                  <a:srgbClr val="000066"/>
                </a:solidFill>
                <a:latin typeface="Arial"/>
              </a:rPr>
              <a:t>IEEE Society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za detalje molimo pogledajte na web-stranice vašeg IEEE društv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u okviru DL programa sekcija/odjel/interesna skupina u većini slučajeva treba platiti samo troškove lokalnog smještaja predavača, a IEEE društvo plaća putne troško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vako IEEE društvo ima pripremljen popis takvih predavača i svoja pravila kao i iznos pomoć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svaki naš odjel mogao bi planirati barem jedno DL predavanje godišn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web: </a:t>
            </a: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ee.org/portal/pages/tab/cha/lectweb2.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svi odjeli i interesne skupine imaju i određeni iznos svojeg novca s kojim mogu raspolagati (aktivan odjel/skupina dobiva za svoj rad u protekloj godini 200 US$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Organiziranje rada odjela i interesne 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28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mah nakon održanog predavanja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ispuniti obrazac L31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na webu: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ee.org/L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d ispunjavanja obrasca L31 voditi računa o svim detaljima, a posebice o polju "vrsta predavanja" (</a:t>
            </a:r>
            <a:r>
              <a:rPr b="0" i="1" lang="hr-HR" sz="24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technical meeting za odjel ima posebnu važnos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u polju "Email CC list:" molimo navesti:</a:t>
            </a:r>
            <a:br>
              <a:rPr sz="2400"/>
            </a:b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mislav.grgic@fer.hr, aleksandar.szabo@fer.h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Organiziranje rada odjela i interesne skup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266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8 Chapter of the Year Contest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oziv za predlaganje najboljih odjela u sekciji na razini regije 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natječaj otvoren svake godin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rok prijave: 15. veljače 2007. godin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nagrada: priznanje i 1.000,00 E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pu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ormul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Chapter Chair Reference Guide i dr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13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kument1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000066"/>
                </a:solidFill>
                <a:latin typeface="Arial"/>
              </a:rPr>
              <a:t>Chapter Chair Reference Guid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kument2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000066"/>
                </a:solidFill>
                <a:latin typeface="Arial"/>
              </a:rPr>
              <a:t>Chapter Chair - Job Description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okument3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000066"/>
                </a:solidFill>
                <a:latin typeface="Arial"/>
              </a:rPr>
              <a:t>Affinity Group Chair - Job Description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19280" y="2338200"/>
            <a:ext cx="77119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66"/>
                </a:solidFill>
                <a:latin typeface="Arial"/>
              </a:rPr>
              <a:t>Izbori u odjelima i interesnim skupinama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avila i preporuke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31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EEE ima praksu da se sva vodstva, pa tako i vodstva odjela i sekcija, mijenjaju svakih godinu dan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rotacija omogućava veći doprinos svih članov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ljudi se zamore nakon duljeg vremen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 obzirom da se mandat može produljiti na još godinu dana, izbori trebaju biti održani svake dvije god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odjeli/skupine koji nisu mijenjali vodstvo više od 2 godine trebaju provesti izbore za novo vodstv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ovedba izbora u odjelim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28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ostupak izbora u odjelim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ak 1: Povjerenstv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ak 2: Poziv za predlaganje kandi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ak 3: Period prijave kandi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ak 4: Poziv za sastana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rak 5: Sastanak na kojem se obavlja glasanj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9280" y="25239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Pregled aktivnosti odjela</a:t>
            </a:r>
            <a:br>
              <a:rPr sz="3600"/>
            </a:br>
            <a:r>
              <a:rPr b="0" lang="hr-HR" sz="3600" spc="-1" strike="noStrike">
                <a:solidFill>
                  <a:srgbClr val="000066"/>
                </a:solidFill>
                <a:latin typeface="Arial"/>
              </a:rPr>
              <a:t>i interesnih skupin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Korak 1: Povjerenstvo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edsjednik odjela imenuje izborno povjerenstvo od tri član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edsjednik odjela imenuje predsjednika izbornog povjerenst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zborno povjerenstvo zaprima kandidature i utvrđuje izbornu list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Korak 2: Poziv kandidatim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23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zborno povjerenstvo šalje elektroničkom poštom poziv članovima odjela da predlože kandidate za predsjednika i dopredsjednika odjela; i samo izborno povjerenstvo može potražiti kandid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u istoj poruci treba biti istaknut rok do kojeg se mogu predlagati kandida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Korak 3: Kandidiranj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vi članovi odjela (s višim stupnjem članstva) mogu se kandidira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izborno povjerenstvo zaprima kandida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a temelju zaprimljenih kandidatura izborno povjerenstvo formira listu od jednog do tri kandidata za svaku funkcij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Korak 4: Poziv za sastanak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akon što je istekao rok za predlaganje kandidata, predsjednik odjela šalje članovima odjela poziv za sastanak u kome su navedeni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opis predloženih kandidata (1 do najviše 3 osobe za svaku funkciju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atum sastanka odjela na kojem će biti provedeni izbori za novo vodstv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Korak 5: Sastanak odjel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31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a zakazani dan održava se sastanak odjela na kojem se izvješćuje o proteklom i budućem radu te se glasa za novo vodstv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glasanje se održava posebno za svaku funkciju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predsjedni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dopredsjedni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glasanje je tajno, osim ako za određenu funkciju postoji samo jedan kandi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66"/>
                </a:solidFill>
                <a:latin typeface="Arial"/>
              </a:rPr>
              <a:t>Kalendar za izbore u odjelim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0920" y="1197000"/>
          <a:ext cx="8640720" cy="3527280"/>
        </p:xfrm>
        <a:graphic>
          <a:graphicData uri="http://schemas.openxmlformats.org/drawingml/2006/table">
            <a:tbl>
              <a:tblPr/>
              <a:tblGrid>
                <a:gridCol w="982440"/>
                <a:gridCol w="2460600"/>
                <a:gridCol w="3337200"/>
                <a:gridCol w="186048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or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Š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redsjednik odj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menuje izborno povjerenst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. mje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zborno povjerenst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Šalje poziv za kandid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. mje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zborno povjerenst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Zaprima kandid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. mje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redsjednik odj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Šalje poziv za sastanak</a:t>
                      </a:r>
                      <a:br>
                        <a:rPr sz="1800"/>
                      </a:b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a kojem će se održati izb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. mje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astanak odj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. mje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19280" y="2338200"/>
            <a:ext cx="77119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66"/>
                </a:solidFill>
                <a:latin typeface="Arial"/>
              </a:rPr>
              <a:t>Planiranje i diskusija aktivnosti odjela i interesnih skupina za 2007. godinu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Temeljne aktivnosti odjel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29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temeljna aktivnost odjela: PREDAVANJ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uspješni odjeli u svijetu organiziraju jedno predavanje mjesečn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najmanje 2 predavanja godišnje, ali sekcija preporučuje viš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odmah nakon održanog predavanja ispuniti obrazac L31 na web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oristiti DL progr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78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Odjeli (</a:t>
            </a:r>
            <a:r>
              <a:rPr b="1" i="1" lang="hr-HR" sz="3000" spc="-1" strike="noStrike">
                <a:solidFill>
                  <a:srgbClr val="000066"/>
                </a:solidFill>
                <a:latin typeface="Arial"/>
              </a:rPr>
              <a:t>Chapters</a:t>
            </a: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su temeljna stručna jedinica za članov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odjeli okupljaju članove koji pripadaju nekom društvu i nalaze se u nekom geografskom područj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lokalno organiziraju aktivnosti od koristi za članove (predavanja, susreti i drug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31410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Interesne skupine (</a:t>
            </a:r>
            <a:r>
              <a:rPr b="1" i="1" lang="hr-HR" sz="3000" spc="-1" strike="noStrike">
                <a:solidFill>
                  <a:srgbClr val="000066"/>
                </a:solidFill>
                <a:latin typeface="Arial"/>
              </a:rPr>
              <a:t>Affinity Groups</a:t>
            </a: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8606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kupljaju članove prema nekim zajedničkim intere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egled odjela i interesnih skupin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i interesne skupine Hrvatske sekcije IEE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7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03/MTT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zajednički odjel za antene i širenje elektromagnetskih valova / teoriju i primjenu mikrovalova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Antennas and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opagation /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crowave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heory and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chniques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int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Zvonimir Šipuš (2005.-____); Juraj Bartolić (2000.-2005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S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električne krugove i sustave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ircuits and Systems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even Mijat (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IS11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 *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računalnu inteligenciju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omputational Intelligence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Ivan Petrović (2007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-____)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Sven Lončarić (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sv-SE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1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komunikacije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ommunications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ja Matija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vić (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; Mladen Kos (1997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2005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egled odjela i interesnih skupin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i interesne skupine Hrvatske sekcije IEE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7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1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računalstvo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omputer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lobodan Ribarić (1997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S23/RA2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jednički odjel za upravljačke sustave / robotiku i automatizaciju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ontrol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ystems /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botics and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utomation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int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oran Vukić (1998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D15/SSC37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 *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jednički odjel za elektroničke elemente / poluvodičke integrirane sklopove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Electron Devices / Solid-State Circuits Joint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tar Biljanović (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2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obrazovanje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Education Joint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eksandar Szabo (2004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egled odjela i interesnih skupin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898200"/>
            <a:ext cx="8785440" cy="48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i interesne skupine Hrvatske sekcije IEE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7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B18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 *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odjel za tehniku u medicini i biologiji</a:t>
            </a:r>
            <a:br>
              <a:rPr sz="1800"/>
            </a:b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En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gineering in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dicine and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ology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hapter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nko Tonković (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C2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elektromagnetsku kompatibilnost</a:t>
            </a:r>
            <a:br>
              <a:rPr sz="1800"/>
            </a:b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Electromagnetic Compatibility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esna Roje (2005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E13/IA34/PEL3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jednički odjel za industrijsku elektroniku / industrijsku primjenu / energetsku elektroniku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dustrial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lectronics /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ndustry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plications /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wer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lectronics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int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vonko Benčić (2001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egled odjela i interesnih skupin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i interesne skupine Hrvatske sekcije IEE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7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0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odjel za instrumentaciju i mjerenja</a:t>
            </a:r>
            <a:br>
              <a:rPr sz="1800"/>
            </a:b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pl-PL" sz="1800" spc="-1" strike="noStrike">
                <a:solidFill>
                  <a:srgbClr val="000066"/>
                </a:solidFill>
                <a:latin typeface="Arial"/>
              </a:rPr>
              <a:t>Instrumentation and Measurement Chapter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edran Bilas (2005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3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energetiku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Power Engineering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denko Šimić (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; Vladimir Mikuličić (1998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2005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43812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MC2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sustave, čovjeka i kibernetiku</a:t>
            </a:r>
            <a:br>
              <a:rPr sz="1800"/>
            </a:b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ystems,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an and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ybernetics 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32080" indent="-265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oran Martinović (2005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78560"/>
            <a:ext cx="8713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Arial"/>
              </a:rPr>
              <a:t>Pregled odjela i interesnih skupina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78544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djeli i interesne skupine Hrvatske sekcije IEE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1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P0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jel za obradu signala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hr-HR" sz="1800" spc="-1" strike="noStrike">
                <a:solidFill>
                  <a:srgbClr val="000066"/>
                </a:solidFill>
                <a:latin typeface="Arial"/>
              </a:rPr>
              <a:t>Signal Processing Chapter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ir Seršić (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66"/>
                </a:solidFill>
                <a:latin typeface="Arial"/>
              </a:rPr>
              <a:t>Hrvoje Babić (1998-2005) -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P01/CAS04</a:t>
            </a:r>
            <a:r>
              <a:rPr b="0" lang="hr-HR" sz="1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pl-PL" sz="1400" spc="-1" strike="noStrike">
                <a:solidFill>
                  <a:srgbClr val="000066"/>
                </a:solidFill>
                <a:latin typeface="Arial"/>
              </a:rPr>
              <a:t>Zajednički odjel za obradu signala /</a:t>
            </a:r>
            <a:br>
              <a:rPr sz="1400"/>
            </a:br>
            <a:r>
              <a:rPr b="0" lang="pl-PL" sz="1400" spc="-1" strike="noStrike">
                <a:solidFill>
                  <a:srgbClr val="000066"/>
                </a:solidFill>
                <a:latin typeface="Arial"/>
              </a:rPr>
              <a:t>električne krugove i sustave (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Signal </a:t>
            </a:r>
            <a:r>
              <a:rPr b="0" i="1" lang="hr-HR" sz="1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rocessing / Circuits and </a:t>
            </a:r>
            <a:r>
              <a:rPr b="0" i="1" lang="hr-HR" sz="1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ystems </a:t>
            </a:r>
            <a:r>
              <a:rPr b="0" i="1" lang="hr-HR" sz="14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oint </a:t>
            </a:r>
            <a:r>
              <a:rPr b="0" i="1" lang="hr-HR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hapter</a:t>
            </a:r>
            <a:r>
              <a:rPr b="0" lang="pl-PL" sz="14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1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OLD 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interesna skupin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 "Skupina IEEE članova koji su diplomirali u posljednjih 10 godina"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"Graduates of the Last Decade" Affinity Group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edsjedni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rešimir Delač (2007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____); Mislav Grgić (2005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2006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43344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1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EM1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odjel za management u inženjerstvu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ngineering Management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međuregionalni odjel: A / CZ / HR / HU / S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u postupku osnivanja na razini Hrvats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17680" indent="-262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</a:rPr>
              <a:t>privremena predsjednica: Željka Car (2007.-____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7:39:11Z</dcterms:created>
  <dc:creator>Sven Loncaric</dc:creator>
  <dc:description/>
  <dc:language>en-US</dc:language>
  <cp:lastModifiedBy>Mislav Grgic</cp:lastModifiedBy>
  <dcterms:modified xsi:type="dcterms:W3CDTF">2007-05-25T14:05:35Z</dcterms:modified>
  <cp:revision>83</cp:revision>
  <dc:subject/>
  <dc:title>Slide 1</dc:title>
</cp:coreProperties>
</file>