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1A3E-78C1-41FF-AE3D-B7D2AF736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C73-AD43-4BD5-BB5D-9DC58607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90B-4F76-45A7-9CB8-9BD2CEEA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5B5-9E65-499F-B35F-3F1A3C14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735-D19A-4C0A-A014-A7BE2D21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D45A-E4CE-44DA-BD11-10DFB766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28F7-FC00-4C14-99FF-B58B5618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106-7E00-4F6C-8D4B-090CD390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4921-7141-417C-8CBD-8F300B82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013-F7E8-4528-9745-C6739EE8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4CE9-26AF-4B47-8195-314A72C8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D46-B451-43F9-8A21-9F28ED95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6BC6-A58E-4389-A24F-AF7F98C51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daria.karasalihovi&#263;-sedlar@rgn.hr" TargetMode="External"/><Relationship Id="rId3" Type="http://schemas.openxmlformats.org/officeDocument/2006/relationships/hyperlink" Target="mailto:daria.karasalihovi&#263;-sedlar@rgn.hr" TargetMode="External"/><Relationship Id="rId4" Type="http://schemas.openxmlformats.org/officeDocument/2006/relationships/hyperlink" Target="mailto:daria.karasalihovi&#263;-sedlar@rgn.hr" TargetMode="External"/><Relationship Id="rId5" Type="http://schemas.openxmlformats.org/officeDocument/2006/relationships/hyperlink" Target="mailto:igor.dekanic@rgn.hr" TargetMode="External"/><Relationship Id="rId6" Type="http://schemas.openxmlformats.org/officeDocument/2006/relationships/hyperlink" Target="mailto:lidia.hrncevic@rgn.hr" TargetMode="External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Analiza sigurnosti opskrbe </a:t>
            </a:r>
            <a:br>
              <a:rPr sz="4000"/>
            </a:b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naftom u R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4723920"/>
            <a:ext cx="8604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Dr. sc. Daria Karasalihović Sedlar 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daria.karasalihović</a:t>
            </a:r>
            <a:r>
              <a:rPr b="0" lang="hr-HR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-</a:t>
            </a:r>
            <a:r>
              <a:rPr b="0" lang="hr-HR" sz="1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edlar@rgn.hr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Prof. dr. sc. Igor Dekanić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igor.dekanic@rgn.hr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Dr. sc. Lidia Hrnčev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lidia.hrncevic@rgn.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Strateške zalihe nafte u zemljama 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84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Njemač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970. u kavernama nalazišta sol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Federalne zalihe nafte i naftnih derivata oko    25 mil.t sirove nafte i naftnih deriv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90-dnevne rafinerijske operativne zalihe naf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40 milijuna 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- najveće u Europ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Francu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0 milijuna 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jedine zalihe mlaznog goriva za 55 da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bvezatne rafinerijske operativne zalihe naftnih deriv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Strateške zalihe nafte u zemljama 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1557360"/>
            <a:ext cx="7620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Mađar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,8 milijuna 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90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Češ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4 skladišta kapaciteta 320 000 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Slovač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20 000 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Polj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70 dana potrošnje, u izgradnji je novo skladište za dodatnih 20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Strateške zalihe nafte u SAD-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140000" y="1905120"/>
            <a:ext cx="500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d 1975., ukupno 100 mil 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1985. probna prodaja od 1,1 mil. bb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daja 21 mil. bbl tijekom Zaljevskog r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daja 28 mil. bbl 1996-97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daja 11 mil.bbl nakon uragana Katrina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4211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Strateške zalihe ostalih zemal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5640" y="1557360"/>
            <a:ext cx="76201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Ja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50 mil. 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državni nadzor – 90 dan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0 mil. 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- nadzor privatnih kompanij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kupne zalihe 90 milijuna 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– 180 dan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z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tpostavka – 270 d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Ruska Federacij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lan od 12 mln m</a:t>
            </a:r>
            <a:r>
              <a:rPr b="0" lang="hr-HR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"/>
              </a:rPr>
              <a:t>Međudržavni sporazumi o strateškim zalihama naf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jemačka, Francuska i Italija ugovor o isporukama iz strateških zaliha u slučaju poremećaj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SAD i Izrael, opskrba Izraela do 5 godin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Japan, Južna Koreja i Novi Zeland međusobne isporuke iz japanskih strateških zali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Strateške zalihe nafte u R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stavak gospodarskog razvitk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bnova rafinerija i smanjenje gubitak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lazak rafinerija na pogon na pli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treba osiguranja dodatnih 0,1×10 </a:t>
            </a:r>
            <a:r>
              <a:rPr b="1" lang="hr-HR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t/god nafte za obvezne zalihe nafte i derivata do razine 90 dana do 2012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siguranje dodatnih 0,2 ×10</a:t>
            </a:r>
            <a:r>
              <a:rPr b="1" lang="hr-HR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t/god za strateške zalihe nafte nakon 2012. do 2020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Projekcija potrošnje tekućih goriva i potreba za naf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80280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Zaključa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32000" y="1699920"/>
            <a:ext cx="76197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 slučaju smetnji opskrbe domaćeg tržišta redovitim uvozom, omogućuje se normalna opskrba tijekom trajanja tržišnog poremeća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sposobljavanje energetskog sustava te Hrvatske agencije za upravljanje zalihama naftnih derivata (HANDA) za pripremu, organizaciju i uspostavu strateških zalihe nafte, te infrastrukturno osposobljavanje kompanija (Ina, Janaf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većanje sigurnosti opskrbe - nakon 2015., i nakon 2020. jer se predviđa da će Hrvatska uvoziti preko 90 % potrebne nafte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195640" y="836640"/>
            <a:ext cx="47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HVALA NA PAŽNJI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4295520" y="-3324240"/>
            <a:ext cx="1523880" cy="817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Struktura ukupne potrošnje u R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42640" y="1295280"/>
            <a:ext cx="8001000" cy="0"/>
          </a:xfrm>
          <a:prstGeom prst="line">
            <a:avLst/>
          </a:prstGeom>
          <a:ln w="63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576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050920" y="1558800"/>
            <a:ext cx="576108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4187520" y="-3432240"/>
            <a:ext cx="1523880" cy="838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Osnivanje strateških zaliha naf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142640" y="1295280"/>
            <a:ext cx="8001000" cy="0"/>
          </a:xfrm>
          <a:prstGeom prst="line">
            <a:avLst/>
          </a:prstGeom>
          <a:ln w="63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5760" cy="1523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71600" y="155736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ustav za uskladištenje sirove nafte, pod nadzorom države ili tvrtki s javnim nadzorom, puštanje nafte na tržište u slučaju poremećaj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1970-ih - SAD, energetska kriza, za djelovanje u slučaju prekida opskrbe nafto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abiliziranje tržišta  - prevladavanje energetskih kriza 70-ih i 80-ih godina XX. stoljeć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geopolitičke nestabilnos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rateška zavisnost gospodarstva o naf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ejednolik raspored rezervi, proizvodnje i potrošnj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rast potražnje za nafto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naprjeđenje energetske sigurnos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043880" y="-3575880"/>
            <a:ext cx="1523880" cy="867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Funkcije strateških zaliha naf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142640" y="1295280"/>
            <a:ext cx="8001000" cy="0"/>
          </a:xfrm>
          <a:prstGeom prst="line">
            <a:avLst/>
          </a:prstGeom>
          <a:ln w="63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5760" cy="15238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294920" y="1699920"/>
            <a:ext cx="76201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igurnosna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– povećanje sigurnosti opskrbe naftom – unaprjeđenje ukupne gospodarske i nacionalne sigurnosti zemalja uvoz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ospodarsk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stabilizirajuće djeluju na opskrbu energij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eopolitičk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odvraćanje destabiliziranja tržiš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trateške zalihe nafte financiraju se iz vladinih fondova ili vladinih poticaja uz posebne kreditne aranžmane i uz državno financiran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c5c5c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295520" y="-3324240"/>
            <a:ext cx="1523880" cy="817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Potrošnja i proizvodnja nafte u svije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142640" y="1295280"/>
            <a:ext cx="8001000" cy="0"/>
          </a:xfrm>
          <a:prstGeom prst="line">
            <a:avLst/>
          </a:prstGeom>
          <a:ln w="63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85760" cy="1523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753080" cy="3548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4356000" y="3443400"/>
            <a:ext cx="4788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Dokazane rezerve nafte u svijet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6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042920" y="1484280"/>
          <a:ext cx="8101080" cy="491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484280"/>
                    <a:ext cx="8101080" cy="49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Cijene</a:t>
            </a: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naf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1628640"/>
            <a:ext cx="76201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vise 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nudi i potražnji na svjetskim robnim burzam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obalnim geopolitičkim napetostim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eopolitičkoj nestabilnosti u zemljama izvoznicima nafte (Nigerija, Venezuela, Ira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pekulacijama na robnim burzam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punjenosti strateških zaliha nafte zemalja najvećih potrošača nafte (S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ff"/>
                </a:solidFill>
                <a:latin typeface="Arial"/>
              </a:rPr>
              <a:t>Kretanje cijena naf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4826160" cy="3384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211640" y="3162240"/>
            <a:ext cx="4932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Strateške zalihe naf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2864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968. Direktiva 68/414/EEC – zemlje članice uvoznice nafte trebaju imati zalihe nafte na teritoriji EEZ za 90-dnevnu domaću potroš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001. - uspostavljanje i držanje strateških zaliha nafte članica regulira i Međunarodna agencija za energiju - IEA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0:05:47Z</dcterms:created>
  <dc:creator>Daria Karasalihovic</dc:creator>
  <dc:description/>
  <dc:language>en-US</dc:language>
  <cp:lastModifiedBy>dkarasa</cp:lastModifiedBy>
  <dcterms:modified xsi:type="dcterms:W3CDTF">2008-10-28T12:00:38Z</dcterms:modified>
  <cp:revision>22</cp:revision>
  <dc:subject/>
  <dc:title>PowerPoint Presentation</dc:title>
</cp:coreProperties>
</file>