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79410-FE4B-43D0-B14D-E5F4B73D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981EE-694F-416B-98F1-0E64D1B9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42698-74EF-45CE-9B6C-59535C17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E190-D7B4-4191-9E22-0E4BD657E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A0B5-CBE1-4DB4-A8C5-EE610A80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3D99-0377-4B58-96AF-173FCE7C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0C92-CFFC-44D6-8990-50967D5A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9E89-0AF7-473E-B267-5853A41C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EBBE-A8C2-42E3-95B1-C603C431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E785-B127-446D-B6AD-62E612AA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F997-4AEC-4628-88F4-2C998F3D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33FE5-DC3D-4E64-B9E6-4708D594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B548-A036-464D-9F60-A738A0A7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24DD-4358-47E3-A2E4-5DD4FEDB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CE3A-1AAB-45A4-B59C-B58AEC88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E86A-5444-477F-906F-E24DEDCB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443B-7186-4760-A22F-35974145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E6977-6C5A-4642-B9C2-8FE27E5D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48F8F-2720-4BC8-B418-660A7769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0F24C-079E-4A46-BFA6-3DB62317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84A97-B8EF-4181-8DE7-2244FADE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F07D9-EFAB-4E05-B5C0-ECDE584C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F7590-090C-4341-B746-27915D87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A76D-68AD-4332-B944-BC4DE716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F4AD-580B-40B6-856C-1605105A8DFC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17DA-078E-4B88-8DFC-B1DAB7EBA479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6000" spc="-1" strike="noStrike">
                <a:solidFill>
                  <a:srgbClr val="e5e5ff"/>
                </a:solidFill>
                <a:latin typeface="Garamond"/>
              </a:rPr>
              <a:t>Strukturalna geopolitika i zaštita kritične infrastrukture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411280" y="5589360"/>
            <a:ext cx="64008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Franklin Gothic Demi"/>
              </a:rPr>
              <a:t>Prof. Dr. Sc. Vlatko Cvrtil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898989"/>
                </a:solidFill>
                <a:latin typeface="Franklin Gothic Demi"/>
              </a:rPr>
              <a:t>Fakultet političkih znanost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Garamond"/>
              </a:rPr>
              <a:t>Komponente energetske sigurnost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Razina ovisnosti o posebnom izvoru energi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Uvzoz nasuprot domaćih izvo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Diverzifikacija dobavljač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Garamond"/>
              </a:rPr>
              <a:t>FIZIČKA SIGURNOST INFRASTRUKTURE I RUTA OPSKRB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Dostupno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ekonomski utjecaj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Garamond"/>
              </a:rPr>
              <a:t>Održivo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5e5ff"/>
                </a:solidFill>
                <a:latin typeface="Garamond"/>
              </a:rPr>
              <a:t>Fizička zaštita infrastruktur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Osjetljiva i skup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Prirodne i ljudske prijet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Kriminaln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terorističk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/ 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vojna prijetn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razvoj mehanizama upravljanja u krizama i brze sanacije posljedi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6" descr="Pipelinecons"/>
          <p:cNvPicPr/>
          <p:nvPr/>
        </p:nvPicPr>
        <p:blipFill>
          <a:blip r:embed="rId1"/>
          <a:stretch/>
        </p:blipFill>
        <p:spPr>
          <a:xfrm>
            <a:off x="5111640" y="1981080"/>
            <a:ext cx="403236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oil_platform_d260895209"/>
          <p:cNvPicPr/>
          <p:nvPr/>
        </p:nvPicPr>
        <p:blipFill>
          <a:blip r:embed="rId2"/>
          <a:stretch/>
        </p:blipFill>
        <p:spPr>
          <a:xfrm>
            <a:off x="5105520" y="4114800"/>
            <a:ext cx="40384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Object 2"/>
          <p:cNvGraphicFramePr/>
          <p:nvPr/>
        </p:nvGraphicFramePr>
        <p:xfrm>
          <a:off x="1258920" y="549360"/>
          <a:ext cx="7270560" cy="56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549360"/>
                    <a:ext cx="7270560" cy="56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Oval 3"/>
          <p:cNvSpPr/>
          <p:nvPr/>
        </p:nvSpPr>
        <p:spPr>
          <a:xfrm rot="20707200">
            <a:off x="992160" y="3290760"/>
            <a:ext cx="3695760" cy="2894040"/>
          </a:xfrm>
          <a:prstGeom prst="ellipse">
            <a:avLst/>
          </a:prstGeom>
          <a:solidFill>
            <a:srgbClr val="3366ff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4572000" y="2708280"/>
            <a:ext cx="3672000" cy="2232000"/>
          </a:xfrm>
          <a:prstGeom prst="ellipse">
            <a:avLst/>
          </a:prstGeom>
          <a:solidFill>
            <a:srgbClr val="ff0000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"/>
          <p:cNvSpPr/>
          <p:nvPr/>
        </p:nvSpPr>
        <p:spPr>
          <a:xfrm rot="2113800">
            <a:off x="3876480" y="1017720"/>
            <a:ext cx="1360440" cy="3020760"/>
          </a:xfrm>
          <a:prstGeom prst="ellipse">
            <a:avLst/>
          </a:prstGeom>
          <a:solidFill>
            <a:srgbClr val="339966">
              <a:alpha val="6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 rot="18276600">
            <a:off x="4753440" y="4104000"/>
            <a:ext cx="615960" cy="1503360"/>
          </a:xfrm>
          <a:prstGeom prst="ellipse">
            <a:avLst/>
          </a:prstGeom>
          <a:blipFill rotWithShape="0">
            <a:blip r:embed="rId3">
              <a:alphaModFix amt="66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4211640" y="3141720"/>
            <a:ext cx="576360" cy="1584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8"/>
          <p:cNvSpPr/>
          <p:nvPr/>
        </p:nvSpPr>
        <p:spPr>
          <a:xfrm rot="21060600">
            <a:off x="5435640" y="4941720"/>
            <a:ext cx="2887560" cy="890640"/>
          </a:xfrm>
          <a:prstGeom prst="ellipse">
            <a:avLst/>
          </a:prstGeom>
          <a:solidFill>
            <a:srgbClr val="3366ff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2"/>
          <p:cNvGraphicFramePr/>
          <p:nvPr/>
        </p:nvGraphicFramePr>
        <p:xfrm>
          <a:off x="2050920" y="765000"/>
          <a:ext cx="58532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765000"/>
                    <a:ext cx="58532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Oval 3"/>
          <p:cNvSpPr/>
          <p:nvPr/>
        </p:nvSpPr>
        <p:spPr>
          <a:xfrm rot="13357200">
            <a:off x="925200" y="3174480"/>
            <a:ext cx="3909960" cy="3035520"/>
          </a:xfrm>
          <a:prstGeom prst="ellipse">
            <a:avLst/>
          </a:prstGeom>
          <a:solidFill>
            <a:srgbClr val="3366ff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5"/>
          <p:cNvSpPr/>
          <p:nvPr/>
        </p:nvSpPr>
        <p:spPr>
          <a:xfrm rot="18276600">
            <a:off x="4860720" y="4308120"/>
            <a:ext cx="615960" cy="1241280"/>
          </a:xfrm>
          <a:prstGeom prst="ellipse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 rot="18280200">
            <a:off x="4575960" y="524520"/>
            <a:ext cx="2824200" cy="5787720"/>
          </a:xfrm>
          <a:prstGeom prst="ellipse">
            <a:avLst/>
          </a:prstGeom>
          <a:solidFill>
            <a:srgbClr val="3366ff">
              <a:alpha val="4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7467480" y="4876920"/>
            <a:ext cx="1371600" cy="1143000"/>
          </a:xfrm>
          <a:prstGeom prst="pi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8"/>
          <p:cNvSpPr/>
          <p:nvPr/>
        </p:nvSpPr>
        <p:spPr>
          <a:xfrm>
            <a:off x="8077320" y="4495680"/>
            <a:ext cx="1295280" cy="9144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1981080" y="3276720"/>
            <a:ext cx="5791320" cy="1600200"/>
          </a:xfrm>
          <a:custGeom>
            <a:avLst/>
            <a:gdLst>
              <a:gd name="textAreaLeft" fmla="*/ 1013400 w 5791320"/>
              <a:gd name="textAreaRight" fmla="*/ 4198680 w 5791320"/>
              <a:gd name="textAreaTop" fmla="*/ 214200 h 1600200"/>
              <a:gd name="textAreaBottom" fmla="*/ 13860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483762"/>
                <a:lnTo>
                  <a:pt x="21066" y="13629"/>
                </a:lnTo>
                <a:lnTo>
                  <a:pt x="17280" y="21600"/>
                </a:lnTo>
                <a:lnTo>
                  <a:pt x="12426" y="13629"/>
                </a:lnTo>
                <a:lnTo>
                  <a:pt x="14586" y="13629"/>
                </a:lnTo>
                <a:arcTo wR="7560" hR="21600" stAng="-2916238" swAng="-2126328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133720" y="5029200"/>
            <a:ext cx="5790960" cy="1066680"/>
          </a:xfrm>
          <a:custGeom>
            <a:avLst/>
            <a:gdLst>
              <a:gd name="textAreaLeft" fmla="*/ 1013400 w 5790960"/>
              <a:gd name="textAreaRight" fmla="*/ 4198680 w 579096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1254600" y="235080"/>
            <a:ext cx="537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e5e5ff"/>
                </a:solidFill>
                <a:latin typeface="Times New Roman"/>
              </a:rPr>
              <a:t>Nove europska strateška sl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Garamond"/>
              </a:rPr>
              <a:t>Zaključa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Razvoj nove paradigme sigurnosti zahtijeva i promjene u analizi novih uvje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Prostor dobiva nova obiljež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Energija postaje važno pitanje nacionalne sigur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Razvoj energetske geopolitik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Strukturalna geopolitika kao analitički apar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Garamond"/>
              </a:rPr>
              <a:t>Formalna/klasična geopolitik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Usmjerena prema prostoru i njegovim karakteristika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Bavi se pitanjima nacionalne moć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Prirodni resurs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Razvoj geostrategije kao modela za analizu prostora i interes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Picture 3" descr="D:\predavanja\mack2.tif"/>
          <p:cNvPicPr/>
          <p:nvPr/>
        </p:nvPicPr>
        <p:blipFill>
          <a:blip r:embed="rId1"/>
          <a:stretch/>
        </p:blipFill>
        <p:spPr>
          <a:xfrm>
            <a:off x="457200" y="380880"/>
            <a:ext cx="8686800" cy="5985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066680" y="38088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</a:rPr>
              <a:t>Klasična geopolit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ight Arrow 4"/>
          <p:cNvSpPr/>
          <p:nvPr/>
        </p:nvSpPr>
        <p:spPr>
          <a:xfrm rot="10800000">
            <a:off x="2379240" y="3024000"/>
            <a:ext cx="1714680" cy="5000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ight Arrow 5"/>
          <p:cNvSpPr/>
          <p:nvPr/>
        </p:nvSpPr>
        <p:spPr>
          <a:xfrm rot="10309200">
            <a:off x="2316240" y="3806280"/>
            <a:ext cx="1714320" cy="5000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ight Arrow 6"/>
          <p:cNvSpPr/>
          <p:nvPr/>
        </p:nvSpPr>
        <p:spPr>
          <a:xfrm rot="11185800">
            <a:off x="2521800" y="2309040"/>
            <a:ext cx="1714680" cy="5000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0099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lowchart: Stored Data 7"/>
          <p:cNvSpPr/>
          <p:nvPr/>
        </p:nvSpPr>
        <p:spPr>
          <a:xfrm>
            <a:off x="2214720" y="2000160"/>
            <a:ext cx="857160" cy="2786040"/>
          </a:xfrm>
          <a:prstGeom prst="flowChartOnlineStorage">
            <a:avLst/>
          </a:prstGeom>
          <a:solidFill>
            <a:srgbClr val="fac090">
              <a:alpha val="3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C10D-BF4B-472D-B624-98CAD475F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rukturalna geopolitik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umijevanje suvremenih geopolitičkih uvje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ri procesa dominiraju suvremenim svijetom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lobalizac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nformatizacij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ove prijetn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Garamond"/>
              </a:rPr>
              <a:t>Nastanak “krize pobjede” (victory crisi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ADB5-774B-4941-9B30-85C820AFA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“</a:t>
            </a:r>
            <a:r>
              <a:rPr b="1" lang="hr-HR" sz="4400" spc="-1" strike="noStrike">
                <a:solidFill>
                  <a:srgbClr val="e5e5ff"/>
                </a:solidFill>
                <a:latin typeface="Garamond"/>
              </a:rPr>
              <a:t>Kriza pobjede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”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astoji se u tome da državne institucije i mehanizmi doživljavaju neuspjehe u određenim pitanjima, jer su nepodobni i neprimjereni novim izazovim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Institucije koje danas prolaze kroz “krizu pobjede” su slobodno tržište, država blagostanja, višestranačka demokracija, nacionalni suverenitet i birokracija nacionalne sigurnosti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U području nacionalne sigurnosti posebno se očituje “kriza pobjede”, jer institucije na tom području moraju napraviti veliki pomak kako bi zadovoljile nove uvjet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Suvremeni svijet obilježen je danas mnogim bumerang efektima koji se ogledaju u djelovanju institucija koje bi morale voditi brigu o nacionalnoj sigurnosti, a zapravo ugrožavaju istu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AEE9-13CD-47AB-8F28-D505C9140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ove opasnost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Jedan od procesa koji se pojavljuje u svijetu je antimodernizam kao izraz koji je nastao na temelju opasnosti koje je modernitet unio u ljudsku zajednicu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Njegovo je obilježje pojednostavljivanje i korištenje klasičnih geopolitičkih figur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To se posebice odnosi na establishment nacionalne sigurnosti unutar kojeg se inzistira na određenom parcijalnom korištenju klasičnih geopolitičkih figura za konceptualizaciju vanjskopolitičkog ali i unutarnjepolitičkog djelovanj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Globalne prijetnje se reduciraju na “ili-ili” logiku i predstaviti prijetnje kao neprijatel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Garamond"/>
              </a:rPr>
              <a:t>Nove granice, nove podjel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Garamond"/>
              </a:rPr>
              <a:t>Promjena paradig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Klasični instrumenti procjenjivanja okoline su zastarjel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Dinamika suvremene sigurnosti uvjetuje promje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Mijenjaju se prioriteti unutar nacionalne sigurnos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Garamond"/>
              </a:rPr>
              <a:t>Energetska sigurnost postaje jednim od najvažnijih pitanj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Garamond"/>
              </a:rPr>
              <a:t>Strukturalna geopolitik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3" descr="D:\predavanja\mack3.tif"/>
          <p:cNvPicPr/>
          <p:nvPr/>
        </p:nvPicPr>
        <p:blipFill>
          <a:blip r:embed="rId1"/>
          <a:stretch/>
        </p:blipFill>
        <p:spPr>
          <a:xfrm>
            <a:off x="468360" y="1268280"/>
            <a:ext cx="4608360" cy="3619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076720" y="1268280"/>
            <a:ext cx="367344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vijet se više ne promatra 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SAMO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kao prostor maksimalizacije nacionale moć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analiziraju se procesi, akteri, interesi, ali </a:t>
            </a:r>
            <a:r>
              <a:rPr b="0" lang="hr-HR" sz="2000" spc="-1" strike="noStrike">
                <a:solidFill>
                  <a:srgbClr val="ff0000"/>
                </a:solidFill>
                <a:latin typeface="Arial"/>
              </a:rPr>
              <a:t>NE SAMO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u cilju izgradnje nacionalne moć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prostor danas dobiva na važnosti kroz prijenos energ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trateški važni prostori u kojima se nalazi energetska infrastruktura zahtijevaju posebnu zašti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413000">
            <a:off x="984240" y="1544760"/>
            <a:ext cx="1512720" cy="2735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e5e5ff"/>
                </a:solidFill>
                <a:latin typeface="Garamond"/>
              </a:rPr>
              <a:t>Nova energetska geopolitik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Garamond"/>
              </a:rPr>
              <a:t>Kako države koriste energiju u svojoj vanjskoj i sigurnosnoj politici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Garamond"/>
              </a:rPr>
              <a:t>Embargo i limitirana proizvodnj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Garamond"/>
              </a:rPr>
              <a:t>Izgradnja partnerst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Garamond"/>
              </a:rPr>
              <a:t>Kažnjavanje neprijatelja (ograničena isporuk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Garamond"/>
              </a:rPr>
              <a:t>Financiranje modernizacije i jačanja vojsk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ff"/>
                </a:solidFill>
                <a:latin typeface="Garamond"/>
              </a:rPr>
              <a:t>Razvoj domaće ekonomske infrastruktu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0:47:58Z</dcterms:created>
  <dc:creator>vlatko</dc:creator>
  <dc:description/>
  <dc:language>en-US</dc:language>
  <cp:lastModifiedBy>VCVRTILA</cp:lastModifiedBy>
  <dcterms:modified xsi:type="dcterms:W3CDTF">2008-10-29T07:34:06Z</dcterms:modified>
  <cp:revision>7</cp:revision>
  <dc:subject/>
  <dc:title>Slide 1</dc:title>
</cp:coreProperties>
</file>