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92F-6F8F-4E47-8252-4FABF7EF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6799-3DD4-4EA7-A40D-C537A149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8A4D-5163-4D36-9030-240A30EC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EBE-B2E0-46A7-B5A6-C378C8058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34C9-6EFF-44F5-BAC2-4553B22D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ED39-E4F9-47DE-8FD1-E6FC10A5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D836-9420-4372-9071-885116E5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180E-D2F6-451F-8240-2140C980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A4D1-F005-4DD6-9A1C-5EBB2148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9513-D43F-4E26-BBE6-768D0976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1F30-5A5E-4E47-A214-CA63D249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372-E7C8-4376-B2C1-D152FF9C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EECE-AF1C-4ADC-8680-60183BCB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1D60-9326-45AF-A1C7-57661EEA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CCA0-D39F-4AA0-B10C-3D2087B9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9D16-644B-4D3C-BE48-A2477D01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70A4-36EE-4CBE-8DC8-CE212738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A68B-2EBC-451A-A71E-EF298266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CC6-CF34-43B7-8E39-60C151D7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1B4-EA23-4A42-B4C7-CC2B837C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67BC-F2A4-4380-BF93-B336A190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9E5-A11A-431A-B7C5-E814108D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6ED-BFE9-456E-9B03-362ACFF7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860-E0DC-46CA-AA66-D1CAE014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7043-287A-446D-9AA4-8A3A4F4FAE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552F-BA96-48BF-9BF3-CE8CE78B0C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20720" y="993240"/>
            <a:ext cx="763272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ergetska sigurnost i kritična infrastruktura: kvalitativni empirijski uvid u neke stavove lokalnih zajednic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90560" y="3645000"/>
            <a:ext cx="6553440" cy="8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Verdana"/>
              </a:rPr>
              <a:t>Dr. Saša Poljanec Borić, Prof. dr. Maja Štambuk i Prof. dr. Drago Čengić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80000" y="4653000"/>
            <a:ext cx="1657080" cy="136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sijek (II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42472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lomin: prijepori/konflikti s EK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Sporo HEP-ovo korporativno administriranje koje proizvodi kašnjenja u plaćanju “ekološke rente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Frustracija apsolutnim iznosom ekološke ren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Frustracija različitim alokacijama ekološke rente unutar istog sustava (HEP-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Frustracija kontradiktornim razvojnim smjerovima Labinštine u odnosu na teritorij županije koja smanjuje transakcijske koristi stanovništvu u orijentiranju na tercijarni sektor koji dominira u županij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Verdana"/>
              </a:rPr>
              <a:t>Ruralni deficit koji na širem području Labinštine destimulira lokalne faktore proizvodnje i reducira povjerenje u lokalni identit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cc0000"/>
                </a:solidFill>
                <a:latin typeface="Verdana"/>
              </a:rPr>
              <a:t>Javno – javni konflikt u izboru temeljnog energenta za novi pogon u Plominu između županije kao javne uprave i HEP-a kao javnog poduzeć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nj: prijepori/konflikti s EK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uperiornost EKI režima u odnosu na  poljoprivredni režim i poslovne planove poduzetničkih grupa s posebnim interesima (kontinen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cc0000"/>
                </a:solidFill>
                <a:latin typeface="Verdana"/>
              </a:rPr>
              <a:t>Konfliktnost EKI režima (remont) s gospodarskim maksimumima u županiji (turizam) i opskrbom vodom za piće (obala i otoc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 u="sng">
                <a:solidFill>
                  <a:srgbClr val="000000"/>
                </a:solidFill>
                <a:uFillTx/>
                <a:latin typeface="Verdana"/>
              </a:rPr>
              <a:t>Osijek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cc0000"/>
                </a:solidFill>
                <a:latin typeface="Verdana"/>
              </a:rPr>
              <a:t>Nesigurnost lokacije/investicije – tumači se kao manjak prepoznavanja strateškog karaktera lokacije Osije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Elastičnost u izboru energenta – vidljiva sklonost široj urbano ruralnoj solidarnosti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cc0000"/>
                </a:solidFill>
                <a:latin typeface="Verdana"/>
              </a:rPr>
              <a:t>Nuklearni optimizam bez odgovornosti za lokaciju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Konzervativan privatizacijski model – jaka vlasnička uloga središnje drža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Verdana"/>
              </a:rPr>
              <a:t>Postmoderni stavovi o reciklaži i štednji energij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sijek: prijepori/konflikti s EK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aključci: (I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Deficit komunikacije između lokalne samouprave i čelništva EKI  je karakteristično obilježje odnosa na sve tri lokaci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Manjak inicijativa povezuje se s problemom socio-kulturnog kapitala a ne s institucionalnim uvjeti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Za promjenu status quo  - nužan poticaj izvana – institut “facilitator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aključci: (II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i u odnosima su to veći što je lokalna zajednica u kojoj se objekt nalazi manj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-generacijski efekt otvara pitanje razvoja “održivih kompenzacijskih paketa” za ruralne općine u Hrvatskoj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aključci (III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redište lokalnog interesa je pitanje izbora energe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Izbor “ugljena” kao energenta podržavaju jedino respondenti iz sustava HEP-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Potrebna šira istraživanja na reprezentativnom uzorku da bi se dobili uvjerljivi podaci o stavu javnosti prema izboru energen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aključci (IV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a svakoj od tri promatrane lokacije postoje problemi u odnosu prema EKI koji prelaze lokalne okvi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Npr. pitanje </a:t>
            </a:r>
            <a:r>
              <a:rPr b="0" lang="hr-HR" sz="3000" spc="-1" strike="noStrike">
                <a:solidFill>
                  <a:srgbClr val="cc0000"/>
                </a:solidFill>
                <a:latin typeface="Verdana"/>
              </a:rPr>
              <a:t>izbora energenta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; pitanje </a:t>
            </a:r>
            <a:r>
              <a:rPr b="0" lang="hr-HR" sz="3000" spc="-1" strike="noStrike">
                <a:solidFill>
                  <a:srgbClr val="cc0000"/>
                </a:solidFill>
                <a:latin typeface="Verdana"/>
              </a:rPr>
              <a:t>opskrbe pitkom vodom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; pitanje </a:t>
            </a:r>
            <a:r>
              <a:rPr b="0" lang="hr-HR" sz="3000" spc="-1" strike="noStrike">
                <a:solidFill>
                  <a:srgbClr val="cc0000"/>
                </a:solidFill>
                <a:latin typeface="Verdana"/>
              </a:rPr>
              <a:t>strateškog odabira lokacije</a:t>
            </a: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 i intenziteta investici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Verdana"/>
              </a:rPr>
              <a:t>Sva su navedena pitanja, de facto, </a:t>
            </a:r>
            <a:r>
              <a:rPr b="0" lang="hr-HR" sz="3000" spc="-1" strike="noStrike">
                <a:solidFill>
                  <a:srgbClr val="cc0000"/>
                </a:solidFill>
                <a:latin typeface="Verdana"/>
              </a:rPr>
              <a:t>političke teme razvoja javno sektor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aključci: (V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iski kapacitet lokalne samouprave da se postavi u poziciju institucionalnog partne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ačanje pravnog, stručnog i organizacijskog okvira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instituta  javne raspr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parentni protokol praćenja i </a:t>
            </a: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institucionaliziranj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ezultata javne rasprav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Hvala na pozornost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203640" y="3213000"/>
            <a:ext cx="216036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ipote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zitivna odnosno negativna lokalna percepcija EKI,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u integracijskim uvjeti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povećava odnosno smanjuje sigurnost  EKI u lokalnoj zajednic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todologij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Kvalitativno empirijsko istraživanj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 u="sng">
                <a:solidFill>
                  <a:srgbClr val="000000"/>
                </a:solidFill>
                <a:uFillTx/>
                <a:latin typeface="Verdana"/>
              </a:rPr>
              <a:t>Odabrane lokacije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: Plomin (ruralna zajednica), Senj (mali grad); Osijek (grad – regionalno središt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 u="sng">
                <a:solidFill>
                  <a:srgbClr val="000000"/>
                </a:solidFill>
                <a:uFillTx/>
                <a:latin typeface="Verdana"/>
              </a:rPr>
              <a:t>Planirani uzorak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: 18 respondenata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Struktura respondenata: na svakoj lokaciji po 6; po 2 repondenta iz HEP-a, 2 iz lokane samouprave i 2 iz javnog sektora (zdravstvo, urbanizam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400" spc="-1" strike="noStrike" u="sng">
                <a:solidFill>
                  <a:srgbClr val="000000"/>
                </a:solidFill>
                <a:uFillTx/>
                <a:latin typeface="Verdana"/>
              </a:rPr>
              <a:t>Metoda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: strukturiranim intervju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Realizacija uzorka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: 16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U Senju nije bilo ni na koji način moguće osigurati respondente/intervjue u gradskom poglavarstvu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500" spc="-1" strike="noStrike" u="sng">
                <a:solidFill>
                  <a:srgbClr val="000000"/>
                </a:solidFill>
                <a:uFillTx/>
                <a:latin typeface="Verdana"/>
              </a:rPr>
              <a:t>Ukupna količina transkripata</a:t>
            </a:r>
            <a:r>
              <a:rPr b="0" lang="hr-HR" sz="1500" spc="-1" strike="noStrike">
                <a:solidFill>
                  <a:srgbClr val="000000"/>
                </a:solidFill>
                <a:latin typeface="Verdana"/>
              </a:rPr>
              <a:t>: 78 kartic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rada transkripa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Po respondenti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Lokalna upra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Održivi razvoj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Elektr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Verdana"/>
              </a:rPr>
              <a:t>Zdravst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 tematskim sklopovi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jveći tekući proble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ješen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i razvo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omunikac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mo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koliš i zdravl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vratak povjerenj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omin (I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8208720" cy="43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omin (II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8281800" cy="43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nj (I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8208720" cy="352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nj (II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280" y="1700280"/>
            <a:ext cx="813744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sijek (I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11280" y="1725480"/>
            <a:ext cx="8208720" cy="451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Zagreb, FER, 29. listopad, 2008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13:36:10Z</dcterms:created>
  <dc:creator>sasa</dc:creator>
  <dc:description/>
  <dc:language>en-US</dc:language>
  <cp:lastModifiedBy>sasa</cp:lastModifiedBy>
  <dcterms:modified xsi:type="dcterms:W3CDTF">2008-10-28T15:48:43Z</dcterms:modified>
  <cp:revision>73</cp:revision>
  <dc:subject/>
  <dc:title>Slide 1</dc:title>
</cp:coreProperties>
</file>