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9F45-487A-42D8-98DA-A76BEC85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CBD-70C0-4D92-9474-C0160D40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1C8-AAFD-4FC8-B732-FA6AFD16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D430-2B57-4062-93BF-9813569E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3A92-E13B-4E72-AA81-5D4982EC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98CA-590B-4A5C-9284-706CDA05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A4C-B6DB-49A5-A8AF-5A05430E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B8F-D757-4313-A56F-C0E4E359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23ED-544F-4679-A846-A9872CE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52D-EA6A-4CFD-958C-D43B648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179-1F2E-46D8-9E03-06C353D3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F4C-9FC6-4034-92B2-C155EC77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365E-292F-452D-88D6-1077BD2B8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ANALIZA SIGURNOSTI OPSKRBE </a:t>
            </a:r>
            <a:br>
              <a:rPr sz="4000"/>
            </a:b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RIRODNIM PLINOM U REPUBLICI HRVATSKO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4653000"/>
            <a:ext cx="70135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r. sc. Lidia Hrnčević, dr. sc. Daria Karasalihović Sedlar, prof. dr. sc. Igor Dekan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udarsko- geološko- naftni faku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veučilište u Zagre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00000" y="1565280"/>
          <a:ext cx="8244000" cy="4459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1565280"/>
                    <a:ext cx="82440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IGURNOST DOBAVE- UZROCI NESTABIL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eopolitičke nestabil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ehnološka i strateška ovisnost o ugljikovodic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eravnomjerna raspodjela rezervi, proizvodnje i potroš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rast potražnje koji ne prati povećanje proizvodnih kapacit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IGURNOST DOB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iverzifikacija dobavnih prava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i dobavni prav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ovi oblici- UPP, S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kladišt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ezons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ateš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DOBAVNI PRAV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Postojeć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us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Novi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međudržavni spojni plinovod s mađarskim sustav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zgradnja terminala za ukapljeni prirodni plin + tranzitni term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ealizacija Jadransko- jonskog prav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SKLADIŠTENJE PRIRODNOG PL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ezonsk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tojeći kapacit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SP Ok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apacitet = 550×10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odišnja količina utisnutog prirodnog plina = 250 – 450×10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Godišnja proizvodnja = 220 – 380×10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hr-HR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Buduće potre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010. g. = 640×10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2020. g. = 1,1×10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hr-H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ateške zali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5% potroš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ff"/>
                </a:solidFill>
                <a:latin typeface="Arial"/>
              </a:rPr>
              <a:t>ZAKLJUČA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anjenje proizvodnje prirodnog 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rast potrošnje prirodnog 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rast uvoza prirodnog pl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sjetljivost tržiša na oscilacije na međunarodnom tržiš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siguranje sigurne dobave prirodnog plina = osiguranje sigurne gospodarske situ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ješen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Diverzifikacija dobavnih pravaca i obl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Skladište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HVALA NA PAŽNJI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0" y="4689360"/>
            <a:ext cx="70138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Dr. sc. Lidia Hrnčević, dr. sc. Daria Karasalihović Sedlar, prof. dr. sc. Igor Dekani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Rudarsko- geološko- naftni fakul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Sveučilište u Zagre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RIRODNI PLIN- GLOBALNA PERSPEK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egionalno tržište              globalno tržiš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va velika plinska sust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Euro – azijski (Rusija – E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jevernoamerički (SAD – Kanada – Meksiko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ve veći utjecaj geopolitičkih pril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191628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VJETSKE REZERVE PRIRODNOG PL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79640" y="1952640"/>
            <a:ext cx="806436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VJETSKA POTROŠNJA PRIRODNOG PL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1790640"/>
            <a:ext cx="7956720" cy="48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SVJETSKA PROIZVODNJA PRIRODNOG PL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187280" y="1909800"/>
            <a:ext cx="795672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GLAVNI PRAVCI TRGOVANJA PRIRODNIM PLIN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50920" y="1511280"/>
            <a:ext cx="799308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RIRODNI PLIN- NACIONALNA PERSPEK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8028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dio u proizvodnji primarne energije- 45,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dio u potrošnji primarne enegije- 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edviđanja (do 2030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izvodnja- nafta i plin 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trošnja – nafta i plin = 60 -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Domaća proizvod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25 plinskih polja, 101 bušo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anon, Svjeverni Jad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zadovoljavanje 60% domaćih potre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ROJEKCIJE POTROŠN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87280" y="1592280"/>
            <a:ext cx="795672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PROJEKCIJE PROIZVODNJ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79640" y="1566720"/>
            <a:ext cx="78483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4:03:13Z</dcterms:created>
  <dc:creator>Daria Karasalihovic</dc:creator>
  <dc:description/>
  <dc:language>en-US</dc:language>
  <cp:lastModifiedBy>Lidia Maurović</cp:lastModifiedBy>
  <dcterms:modified xsi:type="dcterms:W3CDTF">2008-10-29T07:54:15Z</dcterms:modified>
  <cp:revision>74</cp:revision>
  <dc:subject/>
  <dc:title>PowerPoint Presentation</dc:title>
</cp:coreProperties>
</file>