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1E0E9-B41B-4171-92D3-B33AB70A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F23F-C7AE-4FA6-A6BE-C38F157F3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949A4-E18B-4497-8310-9721E64F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D48D-7A0E-4AED-9283-D11E7D03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C36B-DA36-48E5-8C93-C9604A77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D157-FDD3-4E7A-8522-46A1583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6CF6-45FE-44C3-89F1-8DA6DFB4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D81D-5005-4CC7-A03C-69A7C556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15D7-716E-4C50-9B57-8D4E026F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244-EE7C-462C-99DD-792925D9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6C36-8444-4CDF-B546-6A17631F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1CD82-41C4-4817-B558-44B17D2F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C31B-6B91-4D51-B7DB-A38A5D7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BFC8-D18D-4BA0-B12E-3037571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3F5E-E35D-4959-AE32-8E0F6FC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37CA-97F6-4FC4-B446-2F4DB698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EDB6-611C-4A85-ABF7-06ECCE06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79C5B-036F-4E9A-BDA8-EB2F0824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C1EF-C498-4D83-A66B-D4502741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7335-92B5-4076-AD40-7B9418F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08BF-D56C-4508-AB79-B3678E55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3F725-D759-4593-B373-FAD7A11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9B785-F739-46D9-9291-052B893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4D94F-A08A-455B-86D7-63C79AE5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0FE0-402E-4B42-9BF0-8725449484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5CCF-F875-43D4-AD59-6A2D320C5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1447560"/>
            <a:ext cx="556236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cc0000"/>
                </a:solidFill>
                <a:latin typeface="Arial"/>
              </a:rPr>
              <a:t>Energetska sigurnost i zaštita kritične infrastrukture: utjecaj na politike nacionalne sigur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624852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6172200"/>
            <a:ext cx="53341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100" spc="-1" strike="noStrike">
                <a:solidFill>
                  <a:srgbClr val="000099"/>
                </a:solidFill>
                <a:latin typeface="Arial"/>
              </a:rPr>
              <a:t>Prof. dr. sc. Siniša Tatalović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rukovanje_020407"/>
          <p:cNvPicPr/>
          <p:nvPr/>
        </p:nvPicPr>
        <p:blipFill>
          <a:blip r:embed="rId1"/>
          <a:stretch/>
        </p:blipFill>
        <p:spPr>
          <a:xfrm>
            <a:off x="6762600" y="4191120"/>
            <a:ext cx="2381400" cy="1780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22096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38080" y="762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685800"/>
            <a:ext cx="8686800" cy="62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ENERGETSKA</a:t>
            </a:r>
            <a:r>
              <a:rPr b="1" lang="hr-HR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SIGURNOST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cilj države da osigura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eometanu opskrbu energijom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 u svrhu svog gospodarskog razvoja, ali i smanjivanja ovisnosti o uvozu energe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U VEĆINI ZEMALJA POTPUNA NEOVISNOST O UVOZU ENERGENATA NIJE OSTVARIV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ve više zemalja uvozi energente (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iscrpljivanje zalih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jednake pozicije u opskrbi energijo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0000"/>
                </a:solidFill>
                <a:latin typeface="Arial"/>
              </a:rPr>
              <a:t>KRITIČNA INFRASTRUKTURA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energetske instalacije i mreže, komunikacije, informacijske tehnologije, financije, hrana, voda, transpor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ZAŠTITA KRITIČKE INFRASTRUKTURE NUŽNA JE MJERA ZA ZAŠTITU PORETKA I PROSPERITET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4572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762120"/>
            <a:ext cx="777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68580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419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TANJE U SAD-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edan od najvećih potrošača energenata u svijetu-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utječu na cijenu naft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većinu energenata uvoz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ekonomija im ovisi o dostupnosti i količini naft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voze iz svih dijelove svijeta (povećava se uvoz iz Afrike- vojne baze i diplomatske misi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gađaji 11. rujna- prekretnica- suočavaju se s </a:t>
            </a:r>
            <a:r>
              <a:rPr b="1" lang="hr-HR" sz="2000" spc="-1" strike="noStrike">
                <a:solidFill>
                  <a:srgbClr val="ff0000"/>
                </a:solidFill>
                <a:latin typeface="Arial"/>
              </a:rPr>
              <a:t>prijetnjom teroriz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problem obrane energetske infrastrukture od terorističkih napada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kritična infrastruktura najčešće se nalazi u područjima konflik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ENERGETSKA SIGURNOST- očuvanje naftne opskr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206676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990720"/>
            <a:ext cx="7467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914400"/>
            <a:ext cx="845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914400"/>
            <a:ext cx="8915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181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TANJE U ZEMLJAMA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jedan od najvećih uvoznika energenata u svijet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i jedan od najvećih potrošača prirodnog plin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ne postoji jedinstveno energetsko tržište ni politi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javljeno stvaranje zajedničke europske energetske strategije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GREEN PAPER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glavni partner- Rusija-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visnost o ruskoj energiji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rah od Rusije- nastoji se ostvariti suradnja s područjima na Kavkazu, središnjoj Aziji i Bliskom istoku (politički nestabilna područ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zaštita kritične infrastruktur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iguravanje plinovoda od terorističkih napad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ENERGETSKA SIGURNOST-  sigurni izvori energenata po prihvatljiv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cije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228600"/>
            <a:ext cx="160020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STANJE U RUS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još uvijek u procesu tranzicije- brojni socijalni i politički proble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brojna izvorišta energ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u poziciji kreirati vanjsku politiku i povećavati moć u svijetu na temelju energetskog sektor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ektor energetike u potpunoj je kontroli države- velike i utjecajne naftne kompanije (GAZP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EU- najvažnije izvozno područj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prilika za rast moći i demonstraciju s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infrastruktura u lošem stanju-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plan je obnova postojeće i izgradnja n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ENERGETSKA SIGURNOST- sigurnost u izvozu energ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114800" y="380880"/>
            <a:ext cx="2057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66680" y="1219320"/>
            <a:ext cx="7620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Utjecaj energetske sigurnosti i zaštite kritične infrastrukture na strategije nacionalne sigu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057400"/>
            <a:ext cx="861084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ZEMLJE VEĆINSKI POTROŠAČI ENERGENAT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- žele sigurnu  i stabilnu opskrbu energijom po najboljim tržišnim uvje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stoje kupovati od najmanje dva proizvođača kako bi izbjegle potpunu ovisnost o jednom dobavljač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</a:rPr>
              <a:t>ZEMLJE VEĆINSKI PROIZVOĐAČI ENERGENAT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igurna i stabilna proizvodnja i doprema energe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tvaranje stabilnog i sigurnog tržišta za svoje ener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Obje vrste zemalja posebnu pozornost posvećuju sigurnosti i zaštiti kritične infrastrukture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13716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Utjecaj energetske sigurnosti i kritične infrastrukture na strategiju nacionalne </a:t>
            </a:r>
            <a:br>
              <a:rPr sz="2800"/>
            </a:br>
            <a:r>
              <a:rPr b="0" lang="hr-HR" sz="2800" spc="-1" strike="noStrike">
                <a:solidFill>
                  <a:srgbClr val="ff0000"/>
                </a:solidFill>
                <a:latin typeface="Arial"/>
              </a:rPr>
              <a:t>sigurnosti 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H nema zadovoljavajuće izvore energenata- ovisna o uvo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bar geografski položaj- stabilni putovi za transport energen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mogućnost suradnje i sa zemljama izvoznicama i sa zemljama uvoznicama naf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ok ne postanemo članica EU ovisimo sami o se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Nužno je osigurati stabilan i siguran uvoz energenata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Potrebna je cjelovita i fleksibilna energetska strategija orijentirana na ostvarivanje energetske sigurnosti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-  nužno redefiniranje Strategije nacionalne sigurnosti iz 2002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11:53:14Z</dcterms:created>
  <dc:creator>IDA</dc:creator>
  <dc:description/>
  <cp:keywords/>
  <dc:language>en-US</dc:language>
  <cp:lastModifiedBy>rm47</cp:lastModifiedBy>
  <cp:lastPrinted>1998-05-23T17:56:06Z</cp:lastPrinted>
  <dcterms:modified xsi:type="dcterms:W3CDTF">2008-10-28T16:16:00Z</dcterms:modified>
  <cp:revision>196</cp:revision>
  <dc:subject/>
  <dc:title>Issues That Every Defense Establishment Must Address</dc:title>
</cp:coreProperties>
</file>