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A0DF-AA42-444A-8EE1-FD3BBC16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2FE9-9119-40BD-A784-E9D9B3B5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8C2-C8B0-48E0-8E3A-0FA22C1C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04C-5DE6-46D6-9D18-097C62C7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4775-C6DE-4F59-953D-43246B5A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978B-BA78-4A63-AF5E-C067B163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3203-3FC7-490B-81FF-46D3EB82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178D-35E4-4188-821A-B63A0DAD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43E0-AEB5-4F53-A945-F50E9DEF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E05C-5534-4AE8-88E8-EA905681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37D9-4620-42AB-8C7D-91B6488C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86FA-DF1F-4101-8F7C-E6FA9503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3BF8-EA1C-4642-A45A-C6136450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4F89-EFAA-4B26-9C44-58CE733B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051B-46EF-44F3-9FD3-D699B88D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B271-DC49-4207-A1C3-F9F4A68F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6613-36D8-4270-AF4A-84EC778D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425AB-930F-4616-9EA1-778F7940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4F14-986D-4972-9AFD-AC3DE8E3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303EF-23A6-40A3-976D-2C20C8BB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A71C3-05E2-4EF2-B9FD-756A7B8A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584B0-652F-4C41-83AA-4B14E704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2C6-AF55-49AF-8E2A-D77EF11C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E2909-7BB5-4E5E-B578-DC344420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F92E5-ED8F-439B-80DA-E9E775C9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1EC5E-ECF0-4CB4-AA58-12961DB2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15112-BCCC-4BC4-88C2-A568C8B6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040EF-FFC9-42D7-87C1-3F3D6ACB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21A6C-4CB4-4FEC-AFA9-816C7495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B8943-5366-489A-935A-29525643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9659E-E62E-4A13-BC21-81140893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196AB-B91E-4148-B5C5-6B9DC112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CB882-852D-4211-9A2D-37B20BA3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393-B245-42F4-A9FE-2DE824F8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F0010-014B-432F-9DD3-870BFD20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7782E-EA2F-4B26-AF87-3814B7A2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44489-E9AB-4ED5-8AFB-1D57E348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1863A-403C-4C82-96B8-8B7090C3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02C07-2482-4841-B4B8-A90841A4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41998-4560-4444-AAD9-F4871493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1660E-4CF7-40DB-A4B7-415067DA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8EBCA-6AFA-4BCD-9448-E60F7A86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2F193-725E-4D94-93AE-A73C651C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D33DC-68B4-4F25-AC82-F19613FA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8697-CA19-4DA0-BAD8-29FE85D5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7F6D8-2AD8-4679-94C5-4CD0BB64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7210A-5897-460B-B159-B9C16DAE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9B838-49B1-4EDD-9144-5038F539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CC7A8-8B7F-49B9-AFCC-005DE250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961C1-1DA8-40DE-B7AB-C0698BC8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D74FF-41A2-44CA-B9AF-6C17786F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11640-509D-4D8D-A2E2-5CEEA3DF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AA0D5-4419-4349-BC41-33AFE872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5F937-BC49-4933-9270-E36D85DC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68907-0D41-40A4-BE0C-8AD457D4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4AC-0D19-4632-BF68-AFC9BD7A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F0A38-0844-4FDB-B471-11E25C9E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6FD6A-C988-4D18-8315-CCE05B057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FD79C3-8D2E-4492-BD64-5647F91B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3DA8A-388A-44EB-9FC7-3536BBC2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88F7E-14A1-4B9D-8D01-04869CA4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63FFE-E78B-432E-AF2D-9ACA0051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97DDB-A52B-4F18-AA52-5A58C57D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B99DC-DB0E-479D-8DE3-F3B14FF3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AED81-4044-4B5B-A4FC-0F10495E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586B4-EDF7-4D5F-8BF7-5115124F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5839-8B62-48F7-A73B-C8534B14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6745C-40CD-4A5E-8071-848F98D1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192C5-EDD1-4B70-9F96-917227CD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E83C8-B871-42F7-A110-95554F8A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870-C4C2-4667-894C-650A1419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807-0413-46AE-B5F8-4CCBB1E8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62C1-8455-4455-A87A-DE293E7C8848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4EBE-85C3-4121-A095-DFAAB14A374C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9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D379-D6E7-43E3-A058-274B6713A9F2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13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78F2-E697-4305-B6F5-13C400B45552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A504-F2C2-43E5-A964-20AC887FC8AC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2E4C-814C-4167-BF13-6056018A7DB0}" type="slidenum">
              <a:rPr b="0" lang="en-US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adranka.svarc@pilar.hr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928440" y="44287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23227"/>
                </a:solidFill>
                <a:latin typeface="Times New Roman"/>
              </a:rPr>
              <a:t>Dr Jadranka Švarc</a:t>
            </a:r>
            <a:br>
              <a:rPr sz="1900"/>
            </a:br>
            <a:r>
              <a:rPr b="0" lang="en-US" sz="1900" spc="-1" strike="noStrike">
                <a:solidFill>
                  <a:srgbClr val="523227"/>
                </a:solidFill>
                <a:latin typeface="Times New Roman"/>
              </a:rPr>
              <a:t>Institut</a:t>
            </a:r>
            <a:r>
              <a:rPr b="0" lang="hr-HR" sz="1900" spc="-1" strike="noStrike">
                <a:solidFill>
                  <a:srgbClr val="523227"/>
                </a:solidFill>
                <a:latin typeface="Times New Roman"/>
              </a:rPr>
              <a:t> društvenih znanosti  </a:t>
            </a:r>
            <a:r>
              <a:rPr b="0" lang="en-US" sz="1900" spc="-1" strike="noStrike">
                <a:solidFill>
                  <a:srgbClr val="523227"/>
                </a:solidFill>
                <a:latin typeface="Times New Roman"/>
              </a:rPr>
              <a:t>“Ivo Pilar”, Zagreb</a:t>
            </a:r>
            <a:br>
              <a:rPr sz="1900"/>
            </a:br>
            <a:r>
              <a:rPr b="0" lang="de-DE" sz="1900" spc="-1" strike="noStrike">
                <a:solidFill>
                  <a:srgbClr val="523227"/>
                </a:solidFill>
                <a:latin typeface="Times New Roman"/>
              </a:rPr>
              <a:t>e-mail: </a:t>
            </a:r>
            <a:r>
              <a:rPr b="0" lang="de-DE" sz="1900" spc="-1" strike="noStrike" u="sng">
                <a:solidFill>
                  <a:srgbClr val="ad1f1f"/>
                </a:solidFill>
                <a:uFillTx/>
                <a:latin typeface="Times New Roman"/>
                <a:hlinkClick r:id="rId2"/>
              </a:rPr>
              <a:t>jadranka.svarc@pilar.hr</a:t>
            </a:r>
            <a:br>
              <a:rPr sz="1900"/>
            </a:b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568440" y="1652760"/>
            <a:ext cx="8007120" cy="25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itucionalna konfiguracija lokalne participacije u energetskom razvoju u Hrvatsk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rugli st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ETSKA SIGURNOST I KRITIČNA INFRA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kultet elektrotehnike i računarstva Sveučilišta u Zagre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9. 10. 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e3b30"/>
                </a:solidFill>
                <a:latin typeface="Times New Roman"/>
              </a:rPr>
              <a:t>Izgradnja  institucionalne sposobnosti i promjene LZ u energetskom sektoru</a:t>
            </a:r>
            <a:endParaRPr b="0" lang="en-US" sz="24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86800" cy="4722840"/>
          </a:xfrm>
          <a:prstGeom prst="rect">
            <a:avLst/>
          </a:prstGeom>
          <a:noFill/>
          <a:ln w="9360">
            <a:solidFill>
              <a:srgbClr val="ff6699"/>
            </a:solidFill>
            <a:miter/>
          </a:ln>
        </p:spPr>
        <p:txBody>
          <a:bodyPr anchor="t">
            <a:normAutofit fontScale="85000"/>
          </a:bodyPr>
          <a:p>
            <a:pPr marL="518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DVA KANALA  (uske i marginalne prirode?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8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8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51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 u="sng">
                <a:solidFill>
                  <a:srgbClr val="000000"/>
                </a:solidFill>
                <a:uFillTx/>
                <a:latin typeface="Times New Roman"/>
              </a:rPr>
              <a:t>Jačanje institucionalne sposobnosti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51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-osnivanje energetskih ureda i odjela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51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-imenovanje energetskih menadžera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51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-uspostavljanje informacijskih sustava…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51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51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518040" indent="-5180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Rounded Rectangle 2"/>
          <p:cNvSpPr/>
          <p:nvPr/>
        </p:nvSpPr>
        <p:spPr>
          <a:xfrm>
            <a:off x="500040" y="1857240"/>
            <a:ext cx="4286160" cy="13687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Programe  sustavnog gospodarenja energijom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(S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koji uključuju uštede energije i  energetsku  učinkovitost (npr. toplinske izolacije  zgrada, nisko-energetski kućanskih i uredski aparati, reguliranje protoka v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unded Rectangle 2"/>
          <p:cNvSpPr/>
          <p:nvPr/>
        </p:nvSpPr>
        <p:spPr>
          <a:xfrm>
            <a:off x="4929120" y="1857240"/>
            <a:ext cx="3857760" cy="13575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ovećanje udjela obnovljivih  izvora energije (O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adi diversifikacije izvora ener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urved Right Arrow 6"/>
          <p:cNvSpPr/>
          <p:nvPr/>
        </p:nvSpPr>
        <p:spPr>
          <a:xfrm>
            <a:off x="857160" y="1500120"/>
            <a:ext cx="785880" cy="500040"/>
          </a:xfrm>
          <a:custGeom>
            <a:avLst/>
            <a:gdLst>
              <a:gd name="textAreaLeft" fmla="*/ 105120 w 785880"/>
              <a:gd name="textAreaRight" fmla="*/ 680760 w 785880"/>
              <a:gd name="textAreaTop" fmla="*/ 78120 h 500040"/>
              <a:gd name="textAreaBottom" fmla="*/ 35964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763456"/>
                <a:lnTo>
                  <a:pt x="18164" y="21514"/>
                </a:lnTo>
                <a:lnTo>
                  <a:pt x="21600" y="16200"/>
                </a:lnTo>
                <a:lnTo>
                  <a:pt x="18164" y="10714"/>
                </a:lnTo>
                <a:lnTo>
                  <a:pt x="18164" y="13414"/>
                </a:lnTo>
                <a:arcTo wR="21600" hR="6750" stAng="7036544" swAng="32974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urved Left Arrow 7"/>
          <p:cNvSpPr/>
          <p:nvPr/>
        </p:nvSpPr>
        <p:spPr>
          <a:xfrm>
            <a:off x="7286760" y="1500120"/>
            <a:ext cx="714240" cy="571680"/>
          </a:xfrm>
          <a:custGeom>
            <a:avLst/>
            <a:gdLst>
              <a:gd name="textAreaLeft" fmla="*/ 95400 w 714240"/>
              <a:gd name="textAreaRight" fmla="*/ 618840 w 714240"/>
              <a:gd name="textAreaTop" fmla="*/ 89280 h 571680"/>
              <a:gd name="textAreaBottom" fmla="*/ 4111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410852"/>
                <a:lnTo>
                  <a:pt x="4320" y="21464"/>
                </a:lnTo>
                <a:lnTo>
                  <a:pt x="0" y="16200"/>
                </a:lnTo>
                <a:lnTo>
                  <a:pt x="4320" y="10664"/>
                </a:lnTo>
                <a:lnTo>
                  <a:pt x="4320" y="13364"/>
                </a:lnTo>
                <a:arcTo wR="21600" hR="6750" stAng="3410852" swAng="-2944866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iped Right Arrow 8"/>
          <p:cNvSpPr/>
          <p:nvPr/>
        </p:nvSpPr>
        <p:spPr>
          <a:xfrm rot="5400000">
            <a:off x="4500000" y="2857320"/>
            <a:ext cx="642960" cy="13575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unded Rectangle 2"/>
          <p:cNvSpPr/>
          <p:nvPr/>
        </p:nvSpPr>
        <p:spPr>
          <a:xfrm>
            <a:off x="357120" y="3929040"/>
            <a:ext cx="8429760" cy="10000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Najviše su pridonijeli promjeni paradigme upravljanja energijom, institucionalnom kapacitetu LZ u upravljanju energijom i institucionalnoj promjeni = mogući temelj uvođenja kulture partnerstva i dijal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e3b30"/>
                </a:solidFill>
                <a:latin typeface="Times New Roman"/>
              </a:rPr>
              <a:t>Višestruke koristi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71380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3b30"/>
                </a:solidFill>
                <a:latin typeface="Arial"/>
              </a:rPr>
              <a:t>Socio-kulturni aspekti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786924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4e3b30"/>
                </a:solidFill>
                <a:latin typeface="Franklin Gothic Medium"/>
              </a:rPr>
              <a:t>Socijalni kapital (Putnam, 1993)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Rounded Rectangle 2"/>
          <p:cNvSpPr/>
          <p:nvPr/>
        </p:nvSpPr>
        <p:spPr>
          <a:xfrm>
            <a:off x="1116000" y="2708280"/>
            <a:ext cx="2305080" cy="12952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e3b30"/>
                </a:solidFill>
                <a:latin typeface="Times New Roman"/>
              </a:rPr>
              <a:t>POVJER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e3b30"/>
                </a:solidFill>
                <a:latin typeface="Times New Roman"/>
              </a:rPr>
              <a:t>Povjerenje u institucije sis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ounded Rectangle 2"/>
          <p:cNvSpPr/>
          <p:nvPr/>
        </p:nvSpPr>
        <p:spPr>
          <a:xfrm>
            <a:off x="1116000" y="4797360"/>
            <a:ext cx="2232000" cy="12970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e3b30"/>
                </a:solidFill>
                <a:latin typeface="Times New Roman"/>
              </a:rPr>
              <a:t>UMREŽA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(socijalna kohezi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omogućuje kolektivne ak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2"/>
          <p:cNvSpPr/>
          <p:nvPr/>
        </p:nvSpPr>
        <p:spPr>
          <a:xfrm>
            <a:off x="4716360" y="2708280"/>
            <a:ext cx="3527640" cy="1800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NORM</a:t>
            </a:r>
            <a:r>
              <a:rPr b="1" lang="hr-HR" sz="1800" spc="-1" strike="noStrike">
                <a:solidFill>
                  <a:srgbClr val="4e3b30"/>
                </a:solidFill>
                <a:latin typeface="Times New Roman"/>
              </a:rPr>
              <a:t>E</a:t>
            </a:r>
            <a:r>
              <a:rPr b="1" lang="hr-HR" sz="18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(civilnost društ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Vrijednosti i norme ponašanja koje omogućuju društveni angažman građ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6"/>
          <p:cNvSpPr/>
          <p:nvPr/>
        </p:nvSpPr>
        <p:spPr>
          <a:xfrm>
            <a:off x="1979640" y="4076640"/>
            <a:ext cx="288720" cy="576360"/>
          </a:xfrm>
          <a:prstGeom prst="upDownArrow">
            <a:avLst>
              <a:gd name="adj1" fmla="val 50000"/>
              <a:gd name="adj2" fmla="val 39740"/>
            </a:avLst>
          </a:prstGeom>
          <a:solidFill>
            <a:srgbClr val="f0a22e"/>
          </a:solidFill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7"/>
          <p:cNvSpPr/>
          <p:nvPr/>
        </p:nvSpPr>
        <p:spPr>
          <a:xfrm rot="3192600">
            <a:off x="3923640" y="4941000"/>
            <a:ext cx="289080" cy="576000"/>
          </a:xfrm>
          <a:prstGeom prst="upDownArrow">
            <a:avLst>
              <a:gd name="adj1" fmla="val 50000"/>
              <a:gd name="adj2" fmla="val 39666"/>
            </a:avLst>
          </a:prstGeom>
          <a:solidFill>
            <a:srgbClr val="f0a22e"/>
          </a:solidFill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8"/>
          <p:cNvSpPr/>
          <p:nvPr/>
        </p:nvSpPr>
        <p:spPr>
          <a:xfrm rot="7065000">
            <a:off x="3778560" y="3140640"/>
            <a:ext cx="288720" cy="576360"/>
          </a:xfrm>
          <a:prstGeom prst="upDownArrow">
            <a:avLst>
              <a:gd name="adj1" fmla="val 50000"/>
              <a:gd name="adj2" fmla="val 39740"/>
            </a:avLst>
          </a:prstGeom>
          <a:solidFill>
            <a:srgbClr val="f0a22e"/>
          </a:solidFill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2"/>
          <p:cNvSpPr/>
          <p:nvPr/>
        </p:nvSpPr>
        <p:spPr>
          <a:xfrm>
            <a:off x="826920" y="1197000"/>
            <a:ext cx="7993080" cy="1152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…</a:t>
            </a:r>
            <a:r>
              <a:rPr b="1" lang="hr-HR" sz="16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je  fenomen kojim se danas nastoje opisati određene  kvalitete društva koje doprinose uravnoteženom funkcioniranju  društva</a:t>
            </a:r>
            <a:r>
              <a:rPr b="1" lang="en-US" sz="1600" spc="-1" strike="noStrike">
                <a:solidFill>
                  <a:srgbClr val="4e3b30"/>
                </a:solidFill>
                <a:latin typeface="Times New Roman"/>
                <a:ea typeface="SimSun"/>
              </a:rPr>
              <a:t> </a:t>
            </a:r>
            <a:r>
              <a:rPr b="1" lang="hr-HR" sz="16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i gospodarskom ras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određen povijesnim –naslijeđem i socio-kulturnim vrijednostima, snažan utjecaj na neformalne institucije – zato se one teško mijenja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3b30"/>
                </a:solidFill>
                <a:latin typeface="Franklin Gothic Medium"/>
              </a:rPr>
              <a:t>Socijalni kapital u energetskom sektoru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8000" y="1484280"/>
            <a:ext cx="2591280" cy="88452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Povjerenje u institucije sistema</a:t>
            </a:r>
            <a:r>
              <a:rPr b="1" lang="en-US" sz="3200" spc="-1" strike="noStrike">
                <a:solidFill>
                  <a:srgbClr val="4e3b3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Rounded Rectangle 2"/>
          <p:cNvSpPr/>
          <p:nvPr/>
        </p:nvSpPr>
        <p:spPr>
          <a:xfrm>
            <a:off x="3419640" y="1413000"/>
            <a:ext cx="5400360" cy="1152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Građani u Hrvatskoj vjeruju vojsci i crkvi, a ne vladi, pravnom sustavu i politički strankama (Sekulić i Šporer,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entagon 20"/>
          <p:cNvSpPr/>
          <p:nvPr/>
        </p:nvSpPr>
        <p:spPr>
          <a:xfrm>
            <a:off x="468360" y="2781360"/>
            <a:ext cx="2448000" cy="112932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1129320"/>
              <a:gd name="textAreaBottom" fmla="*/ 1129680 h 112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50" y="0"/>
                </a:lnTo>
                <a:lnTo>
                  <a:pt x="21600" y="10800"/>
                </a:lnTo>
                <a:lnTo>
                  <a:pt x="175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Društveno povezivanje (kolektivne akc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2"/>
          <p:cNvSpPr/>
          <p:nvPr/>
        </p:nvSpPr>
        <p:spPr>
          <a:xfrm>
            <a:off x="3492360" y="2781360"/>
            <a:ext cx="5256360" cy="1368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Socijalna kohezija  među akterima energetske politike je slaba (</a:t>
            </a:r>
            <a:r>
              <a:rPr b="1" lang="hr-HR" sz="1600" spc="-1" strike="noStrike">
                <a:solidFill>
                  <a:srgbClr val="4e3b30"/>
                </a:solidFill>
                <a:latin typeface="Times New Roman"/>
              </a:rPr>
              <a:t>Č</a:t>
            </a:r>
            <a:r>
              <a:rPr b="1" lang="hr-HR" sz="16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aldarević i Rogić, 1997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- Direktivna uloga države =otuđen centar moć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- LZ – podanici države, a ne partne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4e3b3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Investitori - Inženjerska zabluda –  (engineer’s falla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entagon 20"/>
          <p:cNvSpPr/>
          <p:nvPr/>
        </p:nvSpPr>
        <p:spPr>
          <a:xfrm>
            <a:off x="468360" y="4221000"/>
            <a:ext cx="2448000" cy="119268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1192680"/>
              <a:gd name="textAreaBottom" fmla="*/ 1193040 h 119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50" y="0"/>
                </a:lnTo>
                <a:lnTo>
                  <a:pt x="21600" y="10800"/>
                </a:lnTo>
                <a:lnTo>
                  <a:pt x="175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Civilnost dru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4e3b30"/>
                </a:solidFill>
                <a:latin typeface="Times New Roman"/>
              </a:rPr>
              <a:t>(društveni angažman građ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2"/>
          <p:cNvSpPr/>
          <p:nvPr/>
        </p:nvSpPr>
        <p:spPr>
          <a:xfrm>
            <a:off x="3492360" y="4292640"/>
            <a:ext cx="5183280" cy="1224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4e3b3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e3b30"/>
                </a:solidFill>
                <a:latin typeface="Times New Roman"/>
              </a:rPr>
              <a:t>Niska razina društvenog angaž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e3b3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e3b30"/>
                </a:solidFill>
                <a:latin typeface="Times New Roman"/>
              </a:rPr>
              <a:t>NIMBY sind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4e3b3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e3b30"/>
                </a:solidFill>
                <a:latin typeface="Times New Roman"/>
              </a:rPr>
              <a:t>kampaniliz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2"/>
          <p:cNvSpPr/>
          <p:nvPr/>
        </p:nvSpPr>
        <p:spPr>
          <a:xfrm>
            <a:off x="324000" y="5589720"/>
            <a:ext cx="8569080" cy="105228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e3b30"/>
                </a:solidFill>
                <a:latin typeface="Arial"/>
                <a:ea typeface="华文楷体"/>
              </a:rPr>
              <a:t>NEFORMALNE INSTITUCIJE  IMAJU SNAŽAN UTJECAJ NA FORMALNE INSTITUCIJE - ZATO TREBA MIJENJATI SOCIO-KULTURNE ODNOSE I MENTALNE OKV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3b30"/>
                </a:solidFill>
                <a:latin typeface="Times New Roman"/>
              </a:rPr>
              <a:t>Zašto su važne institucije?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93040" y="1383120"/>
            <a:ext cx="8602560" cy="7794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4e3b30"/>
                </a:solidFill>
                <a:latin typeface="Times New Roman"/>
              </a:rPr>
              <a:t>Institucije </a:t>
            </a:r>
            <a:r>
              <a:rPr b="0" lang="hr-HR" sz="1800" spc="-1" strike="noStrike">
                <a:solidFill>
                  <a:srgbClr val="4e3b30"/>
                </a:solidFill>
                <a:latin typeface="Times New Roman"/>
              </a:rPr>
              <a:t>  (D. North, 1990) čine okvir u kojima se odvija ljudska djelatnost, te o njihovoj konfiguraciji, kvaliteti  i interakciji ovisi ukupan  gospodarski napredak, pa tako i dinamika razvoja energetskog sektora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Rounded Rectangle 6"/>
          <p:cNvSpPr/>
          <p:nvPr/>
        </p:nvSpPr>
        <p:spPr>
          <a:xfrm>
            <a:off x="0" y="2492280"/>
            <a:ext cx="4500720" cy="288144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Institucionalni kapacitet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(institutional capacity)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ili kvaliteta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institu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označava  sposobnost  institucija, ponajprije tijela državne i lokalne uprave i samouprave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Times New Roman"/>
              </a:rPr>
              <a:t>da osiguraju takav regulatorni okvir i upravljačke procese koji omogućuju isporuku roba i usluga važnim za život građana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, nacionalnu sigurnost i gospodarski razvoj</a:t>
            </a:r>
            <a:r>
              <a:rPr b="0" lang="hr-HR" sz="2000" spc="-1" strike="noStrike">
                <a:solidFill>
                  <a:srgbClr val="4e3b3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6"/>
          <p:cNvSpPr/>
          <p:nvPr/>
        </p:nvSpPr>
        <p:spPr>
          <a:xfrm>
            <a:off x="4932360" y="2565360"/>
            <a:ext cx="3960720" cy="2592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Institucionalna  promjena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(institutional change) i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li re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kojima se unapređuje  sposobnost upravljanja energetskim sektorom i mijenjaju same instituci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6"/>
          <p:cNvSpPr/>
          <p:nvPr/>
        </p:nvSpPr>
        <p:spPr>
          <a:xfrm>
            <a:off x="1258920" y="5589720"/>
            <a:ext cx="7128000" cy="990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 li postoji odgovarajući institucionalni okvir i kapacitet za aktivno sudjelovanje lokalnih zajednica u energetskoj politic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8"/>
          <p:cNvSpPr/>
          <p:nvPr/>
        </p:nvSpPr>
        <p:spPr>
          <a:xfrm>
            <a:off x="2771640" y="2205000"/>
            <a:ext cx="432000" cy="432000"/>
          </a:xfrm>
          <a:custGeom>
            <a:avLst/>
            <a:gdLst>
              <a:gd name="textAreaLeft" fmla="*/ 57600 w 432000"/>
              <a:gd name="textAreaRight" fmla="*/ 374400 w 432000"/>
              <a:gd name="textAreaTop" fmla="*/ 75600 h 432000"/>
              <a:gd name="textAreaBottom" fmla="*/ 31320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0a22e"/>
          </a:solidFill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6659640" y="2133720"/>
            <a:ext cx="217440" cy="574560"/>
          </a:xfrm>
          <a:custGeom>
            <a:avLst/>
            <a:gdLst>
              <a:gd name="textAreaLeft" fmla="*/ 29160 w 217440"/>
              <a:gd name="textAreaRight" fmla="*/ 188280 w 217440"/>
              <a:gd name="textAreaTop" fmla="*/ 100440 h 574560"/>
              <a:gd name="textAreaBottom" fmla="*/ 4165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0a22e"/>
          </a:solidFill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4e3b30"/>
                </a:solidFill>
                <a:latin typeface="Times New Roman"/>
              </a:rPr>
              <a:t>Vrste institucija</a:t>
            </a:r>
            <a:r>
              <a:rPr b="0" lang="hr-HR" sz="2800" spc="-1" strike="noStrike">
                <a:solidFill>
                  <a:srgbClr val="4e3b30"/>
                </a:solidFill>
                <a:latin typeface="Times New Roman"/>
              </a:rPr>
              <a:t> </a:t>
            </a:r>
            <a:r>
              <a:rPr b="0" lang="hr-HR" sz="36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entagon 20"/>
          <p:cNvSpPr/>
          <p:nvPr/>
        </p:nvSpPr>
        <p:spPr>
          <a:xfrm>
            <a:off x="468360" y="3141720"/>
            <a:ext cx="2857320" cy="1582560"/>
          </a:xfrm>
          <a:custGeom>
            <a:avLst/>
            <a:gdLst>
              <a:gd name="textAreaLeft" fmla="*/ 0 w 2857320"/>
              <a:gd name="textAreaRight" fmla="*/ 2857680 w 2857320"/>
              <a:gd name="textAreaTop" fmla="*/ 0 h 1582560"/>
              <a:gd name="textAreaBottom" fmla="*/ 1582920 h 15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18" y="0"/>
                </a:lnTo>
                <a:lnTo>
                  <a:pt x="21600" y="10800"/>
                </a:lnTo>
                <a:lnTo>
                  <a:pt x="156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NEFORMALNE INSTITU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norme, vrijednosti…)</a:t>
            </a:r>
            <a:r>
              <a:rPr b="0" lang="en-GB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entagon 20"/>
          <p:cNvSpPr/>
          <p:nvPr/>
        </p:nvSpPr>
        <p:spPr>
          <a:xfrm>
            <a:off x="468360" y="1341360"/>
            <a:ext cx="2857320" cy="1582920"/>
          </a:xfrm>
          <a:custGeom>
            <a:avLst/>
            <a:gdLst>
              <a:gd name="textAreaLeft" fmla="*/ 0 w 2857320"/>
              <a:gd name="textAreaRight" fmla="*/ 2857680 w 2857320"/>
              <a:gd name="textAreaTop" fmla="*/ 0 h 1582920"/>
              <a:gd name="textAreaBottom" fmla="*/ 1583280 h 158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18" y="0"/>
                </a:lnTo>
                <a:lnTo>
                  <a:pt x="21600" y="10800"/>
                </a:lnTo>
                <a:lnTo>
                  <a:pt x="156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MALNE INSTITU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zakoni, regulative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entagon 20"/>
          <p:cNvSpPr/>
          <p:nvPr/>
        </p:nvSpPr>
        <p:spPr>
          <a:xfrm>
            <a:off x="539640" y="5013360"/>
            <a:ext cx="2857680" cy="1582560"/>
          </a:xfrm>
          <a:custGeom>
            <a:avLst/>
            <a:gdLst>
              <a:gd name="textAreaLeft" fmla="*/ 0 w 2857680"/>
              <a:gd name="textAreaRight" fmla="*/ 2858040 w 2857680"/>
              <a:gd name="textAreaTop" fmla="*/ 0 h 1582560"/>
              <a:gd name="textAreaBottom" fmla="*/ 1582920 h 15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18" y="0"/>
                </a:lnTo>
                <a:lnTo>
                  <a:pt x="21600" y="10800"/>
                </a:lnTo>
                <a:lnTo>
                  <a:pt x="156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ORGANIZ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</a:rPr>
              <a:t>(pravne osobe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ounded Rectangle 2"/>
          <p:cNvSpPr/>
          <p:nvPr/>
        </p:nvSpPr>
        <p:spPr>
          <a:xfrm>
            <a:off x="4356000" y="1268280"/>
            <a:ext cx="3716280" cy="10731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buClr>
                <a:srgbClr val="5232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23227"/>
                </a:solidFill>
                <a:latin typeface="Times New Roman"/>
              </a:rPr>
              <a:t>Zakon o energij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5232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23227"/>
                </a:solidFill>
                <a:latin typeface="Times New Roman"/>
              </a:rPr>
              <a:t>Strategija razvoj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5232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23227"/>
                </a:solidFill>
                <a:latin typeface="Times New Roman"/>
              </a:rPr>
              <a:t>EU direktiv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5232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23227"/>
                </a:solidFill>
                <a:latin typeface="Times New Roman"/>
              </a:rPr>
              <a:t>Kyoto sporazum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2"/>
          <p:cNvSpPr/>
          <p:nvPr/>
        </p:nvSpPr>
        <p:spPr>
          <a:xfrm>
            <a:off x="4356000" y="2997360"/>
            <a:ext cx="3672000" cy="15127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buClr>
                <a:srgbClr val="5232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3227"/>
                </a:solidFill>
                <a:latin typeface="Times New Roman"/>
              </a:rPr>
              <a:t>Negativna percepcija nuklearne  energij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5232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3227"/>
                </a:solidFill>
                <a:latin typeface="Times New Roman"/>
              </a:rPr>
              <a:t>Nepovjerenje u državne institucije (korupcija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5232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3227"/>
                </a:solidFill>
                <a:latin typeface="Times New Roman"/>
              </a:rPr>
              <a:t>Nepovjerenje u investitore (interesi velikih igrača…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2"/>
          <p:cNvSpPr/>
          <p:nvPr/>
        </p:nvSpPr>
        <p:spPr>
          <a:xfrm>
            <a:off x="4427640" y="5013360"/>
            <a:ext cx="3571920" cy="151272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buClr>
                <a:srgbClr val="5232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23227"/>
                </a:solidFill>
                <a:latin typeface="Times New Roman"/>
              </a:rPr>
              <a:t>MINGO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5232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23227"/>
                </a:solidFill>
                <a:latin typeface="Times New Roman"/>
              </a:rPr>
              <a:t>Fond za zaštitu okoliša i energetsku učinkovit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52322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23227"/>
                </a:solidFill>
                <a:latin typeface="Times New Roman"/>
              </a:rPr>
              <a:t>Institut Hrvoje Požar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3"/>
          <p:cNvSpPr/>
          <p:nvPr/>
        </p:nvSpPr>
        <p:spPr>
          <a:xfrm>
            <a:off x="7956720" y="3573360"/>
            <a:ext cx="792000" cy="287280"/>
          </a:xfrm>
          <a:custGeom>
            <a:avLst/>
            <a:gdLst>
              <a:gd name="textAreaLeft" fmla="*/ 149040 w 792000"/>
              <a:gd name="textAreaRight" fmla="*/ 456480 w 79200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32" hR="21600" stAng="10800000" swAng="-5400000"/>
                <a:lnTo>
                  <a:pt x="8388" y="21600"/>
                </a:lnTo>
                <a:arcTo wR="8132" hR="21600" stAng="5400000" swAng="-5400000"/>
                <a:lnTo>
                  <a:pt x="21600" y="0"/>
                </a:lnTo>
                <a:lnTo>
                  <a:pt x="16391" y="0"/>
                </a:lnTo>
                <a:lnTo>
                  <a:pt x="11182" y="0"/>
                </a:lnTo>
                <a:lnTo>
                  <a:pt x="16263" y="0"/>
                </a:lnTo>
                <a:arcTo wR="8132" hR="21600" stAng="0" swAng="5379626"/>
                <a:lnTo>
                  <a:pt x="8260" y="21597"/>
                </a:lnTo>
                <a:arcTo wR="8132" hR="21600" stAng="5420374" swAng="5379626"/>
                <a:close/>
              </a:path>
              <a:path fill="darkenLess" w="21600" h="21600">
                <a:moveTo>
                  <a:pt x="0" y="0"/>
                </a:moveTo>
                <a:arcTo wR="8132" hR="21600" stAng="10800000" swAng="-5400000"/>
                <a:lnTo>
                  <a:pt x="8388" y="21600"/>
                </a:lnTo>
                <a:arcTo wR="8132" hR="21600" stAng="5400000" swAng="20374"/>
                <a:lnTo>
                  <a:pt x="8260" y="21597"/>
                </a:lnTo>
                <a:arcTo wR="8132" hR="21600" stAng="5420374" swAng="5379626"/>
                <a:close/>
              </a:path>
            </a:pathLst>
          </a:custGeom>
          <a:solidFill>
            <a:srgbClr val="f0a22e"/>
          </a:solidFill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9"/>
          <p:cNvSpPr/>
          <p:nvPr/>
        </p:nvSpPr>
        <p:spPr>
          <a:xfrm>
            <a:off x="5796000" y="2421000"/>
            <a:ext cx="936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0">
            <a:noFill/>
          </a:ln>
          <a:effectLst>
            <a:outerShdw dist="17819" dir="2700000" blurRad="0" rotWithShape="0">
              <a:srgbClr val="99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1"/>
          <p:cNvSpPr/>
          <p:nvPr/>
        </p:nvSpPr>
        <p:spPr>
          <a:xfrm>
            <a:off x="5292720" y="2492280"/>
            <a:ext cx="23763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Osiguravaju provedb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2"/>
          <p:cNvSpPr/>
          <p:nvPr/>
        </p:nvSpPr>
        <p:spPr>
          <a:xfrm>
            <a:off x="7251840" y="2492280"/>
            <a:ext cx="11365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3b30"/>
                </a:solidFill>
                <a:latin typeface="Times New Roman"/>
              </a:rPr>
              <a:t>Opći institucionakni okvir za sudjelovanje LK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e3b30"/>
                </a:solidFill>
                <a:latin typeface="Times New Roman"/>
              </a:rPr>
              <a:t>Centraliziran</a:t>
            </a:r>
            <a:r>
              <a:rPr b="0" lang="hr-HR" sz="2400" spc="-1" strike="noStrike">
                <a:solidFill>
                  <a:srgbClr val="4e3b30"/>
                </a:solidFill>
                <a:latin typeface="Times New Roman"/>
              </a:rPr>
              <a:t> -  energetska politika je koncentrirana u rukama središnje držav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e3b30"/>
                </a:solidFill>
                <a:latin typeface="Times New Roman"/>
              </a:rPr>
              <a:t>Monopoliziran</a:t>
            </a:r>
            <a:r>
              <a:rPr b="0" lang="hr-HR" sz="2400" spc="-1" strike="noStrike">
                <a:solidFill>
                  <a:srgbClr val="4e3b30"/>
                </a:solidFill>
                <a:latin typeface="Times New Roman"/>
              </a:rPr>
              <a:t> – HEP grupa, INA grupa, CROSCO,  Plinacro, JANAF… (donekle razumljivo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Reforma</a:t>
            </a:r>
            <a:r>
              <a:rPr b="0" lang="hr-HR" sz="24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energetskog sektora - započela  je u srpnju 2001. godine kada je Hrvatski sabor donio paket energetskih zakona (NN 68/2001), te </a:t>
            </a:r>
            <a:r>
              <a:rPr b="1" lang="hr-HR" sz="24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Strategiju</a:t>
            </a:r>
            <a:r>
              <a:rPr b="0" lang="hr-HR" sz="24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energetskog razvitka- početak institucionalnih promjena- </a:t>
            </a:r>
            <a:r>
              <a:rPr b="0" lang="hr-HR" sz="2400" spc="-1" strike="noStrike" u="sng">
                <a:solidFill>
                  <a:srgbClr val="4e3b30"/>
                </a:solidFill>
                <a:uFillTx/>
                <a:latin typeface="Times New Roman"/>
                <a:ea typeface="华文楷体"/>
              </a:rPr>
              <a:t>procesi liberalizacije, privatizacije i deregulacije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e3b30"/>
                </a:solidFill>
                <a:latin typeface="Times New Roman"/>
              </a:rPr>
              <a:t>Reforma – “</a:t>
            </a:r>
            <a:r>
              <a:rPr b="1" lang="hr-HR" sz="2400" spc="-1" strike="noStrike">
                <a:solidFill>
                  <a:srgbClr val="4e3b30"/>
                </a:solidFill>
                <a:latin typeface="Times New Roman"/>
              </a:rPr>
              <a:t>Drugi korak</a:t>
            </a:r>
            <a:r>
              <a:rPr b="0" lang="hr-HR" sz="2400" spc="-1" strike="noStrike">
                <a:solidFill>
                  <a:srgbClr val="4e3b30"/>
                </a:solidFill>
                <a:latin typeface="Times New Roman"/>
              </a:rPr>
              <a:t>” – izmjene i dopune energetskih zakona 2004. godine – u znaku “EU”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3b30"/>
                </a:solidFill>
                <a:latin typeface="Times New Roman"/>
              </a:rPr>
              <a:t>Energetska politika – stanje razvojne nemoći?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95280" y="1341360"/>
            <a:ext cx="3169080" cy="86724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OPĆ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Rounded Rectangle 2"/>
          <p:cNvSpPr/>
          <p:nvPr/>
        </p:nvSpPr>
        <p:spPr>
          <a:xfrm>
            <a:off x="3851280" y="1341360"/>
            <a:ext cx="4681440" cy="10731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23227"/>
                </a:solidFill>
                <a:latin typeface="Times New Roman"/>
              </a:rPr>
              <a:t>Ciljevi se mogu primijeniti na bilo koju državu (osiguranje sigurne opskrbe, diverzifikacija izvora, OI, razvitak energ. tržišta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entagon 20"/>
          <p:cNvSpPr/>
          <p:nvPr/>
        </p:nvSpPr>
        <p:spPr>
          <a:xfrm>
            <a:off x="324000" y="2708280"/>
            <a:ext cx="3168360" cy="866880"/>
          </a:xfrm>
          <a:custGeom>
            <a:avLst/>
            <a:gdLst>
              <a:gd name="textAreaLeft" fmla="*/ 0 w 3168360"/>
              <a:gd name="textAreaRight" fmla="*/ 3168720 w 316836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50" y="0"/>
                </a:lnTo>
                <a:lnTo>
                  <a:pt x="21600" y="10800"/>
                </a:lnTo>
                <a:lnTo>
                  <a:pt x="175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FRAGMENTA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entagon 20"/>
          <p:cNvSpPr/>
          <p:nvPr/>
        </p:nvSpPr>
        <p:spPr>
          <a:xfrm>
            <a:off x="395280" y="4076640"/>
            <a:ext cx="3097080" cy="86688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50" y="0"/>
                </a:lnTo>
                <a:lnTo>
                  <a:pt x="21600" y="10800"/>
                </a:lnTo>
                <a:lnTo>
                  <a:pt x="175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KONFUZ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entagon 20"/>
          <p:cNvSpPr/>
          <p:nvPr/>
        </p:nvSpPr>
        <p:spPr>
          <a:xfrm>
            <a:off x="324000" y="5373720"/>
            <a:ext cx="3114360" cy="866880"/>
          </a:xfrm>
          <a:custGeom>
            <a:avLst/>
            <a:gdLst>
              <a:gd name="textAreaLeft" fmla="*/ 0 w 3114360"/>
              <a:gd name="textAreaRight" fmla="*/ 3114720 w 311436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50" y="0"/>
                </a:lnTo>
                <a:lnTo>
                  <a:pt x="21600" y="10800"/>
                </a:lnTo>
                <a:lnTo>
                  <a:pt x="1755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PREDATOR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2"/>
          <p:cNvSpPr/>
          <p:nvPr/>
        </p:nvSpPr>
        <p:spPr>
          <a:xfrm>
            <a:off x="3780000" y="2565360"/>
            <a:ext cx="4895640" cy="1368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23227"/>
                </a:solidFill>
                <a:latin typeface="Times New Roman"/>
              </a:rPr>
              <a:t>Nema </a:t>
            </a:r>
            <a:r>
              <a:rPr b="0" lang="hr-HR" sz="1800" spc="-1" strike="noStrike" u="sng">
                <a:solidFill>
                  <a:srgbClr val="523227"/>
                </a:solidFill>
                <a:uFillTx/>
                <a:latin typeface="Times New Roman"/>
              </a:rPr>
              <a:t>horizontalne </a:t>
            </a:r>
            <a:r>
              <a:rPr b="0" lang="hr-HR" sz="1800" spc="-1" strike="noStrike">
                <a:solidFill>
                  <a:srgbClr val="523227"/>
                </a:solidFill>
                <a:latin typeface="Times New Roman"/>
              </a:rPr>
              <a:t>poveznice između niza posebnih energ. politika (Kyoto sporazuma, razvitka, energetske efikasnosti, sigurnosti opskrbe… i </a:t>
            </a:r>
            <a:r>
              <a:rPr b="0" lang="hr-HR" sz="1800" spc="-1" strike="noStrike" u="sng">
                <a:solidFill>
                  <a:srgbClr val="523227"/>
                </a:solidFill>
                <a:uFillTx/>
                <a:latin typeface="Times New Roman"/>
              </a:rPr>
              <a:t>vertikalne</a:t>
            </a:r>
            <a:r>
              <a:rPr b="0" lang="hr-HR" sz="1800" spc="-1" strike="noStrike">
                <a:solidFill>
                  <a:srgbClr val="523227"/>
                </a:solidFill>
                <a:latin typeface="Times New Roman"/>
              </a:rPr>
              <a:t> - </a:t>
            </a:r>
            <a:r>
              <a:rPr b="0" lang="hr-HR" sz="1800" spc="-1" strike="noStrike" u="sng">
                <a:solidFill>
                  <a:srgbClr val="523227"/>
                </a:solidFill>
                <a:uFillTx/>
                <a:latin typeface="Times New Roman"/>
              </a:rPr>
              <a:t>međusektorske</a:t>
            </a:r>
            <a:r>
              <a:rPr b="0" lang="hr-HR" sz="1800" spc="-1" strike="noStrike">
                <a:solidFill>
                  <a:srgbClr val="523227"/>
                </a:solidFill>
                <a:latin typeface="Times New Roman"/>
              </a:rPr>
              <a:t> povezanosti (proračuna i lokalne energetske politik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ounded Rectangle 2"/>
          <p:cNvSpPr/>
          <p:nvPr/>
        </p:nvSpPr>
        <p:spPr>
          <a:xfrm>
            <a:off x="3780000" y="4076640"/>
            <a:ext cx="4824360" cy="10731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523227"/>
                </a:solidFill>
                <a:latin typeface="Times New Roman"/>
              </a:rPr>
              <a:t>Nema jasne strategije, izjave političara su često oprečne (Nabucco, Družba Adria, smještaj LGN terminala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ounded Rectangle 2"/>
          <p:cNvSpPr/>
          <p:nvPr/>
        </p:nvSpPr>
        <p:spPr>
          <a:xfrm>
            <a:off x="3851280" y="5373720"/>
            <a:ext cx="4753080" cy="10731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3227"/>
                </a:solidFill>
                <a:latin typeface="Times New Roman"/>
              </a:rPr>
              <a:t>Punjenje državnog proračuna nametima na visoke cijene energenata. Cilj je punjenje blagajne a ne standard građ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3b30"/>
                </a:solidFill>
                <a:latin typeface="Times New Roman"/>
              </a:rPr>
              <a:t>Položaj lokalnih zajednica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nisu subjekt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energetskog razvoja jer ga ne kontroliraj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Jesu objekt kojima upravljaju  nepoznate i od njih posve otuđene sile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kao što su: - međunarodna  tržišta energije (divljanje špekulantskih cijena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- apstraktne energetske politike  na razini EU;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- nedorečene nacionalne energetske strategije..,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informativni vakuumu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visoka razina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konfliktnosti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– u “sendviču” – stiješnjene između opće energetske politike – “velikih igrača” i lokalnih interesa (interesnih grupa i lokalnog stanovništva – često rezultira NIMBY sindromom i kampanilističkim reakcijama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A USPJEŠNU LOKALNU ENERGETSKU POLITIKU IMPERATIV JE: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USKLAĐIVANJE OPĆEG I POSEBNOG INTERESA,  DRŽAVNE I LOKALNE POLITIKE</a:t>
            </a:r>
            <a:r>
              <a:rPr b="0" lang="hr-HR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4e3b30"/>
                </a:solidFill>
                <a:latin typeface="Franklin Gothic Medium"/>
              </a:rPr>
              <a:t>Institucionalni kanali sudjelovanja  lokalnih zajednica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8064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3b30"/>
                </a:solidFill>
                <a:latin typeface="Times New Roman"/>
              </a:rPr>
              <a:t>Participirajući kanali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868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e3b30"/>
                </a:solidFill>
                <a:latin typeface="Franklin Gothic Book"/>
              </a:rPr>
              <a:t>… </a:t>
            </a:r>
            <a:r>
              <a:rPr b="0" lang="hr-HR" sz="1800" spc="-1" strike="noStrike">
                <a:solidFill>
                  <a:srgbClr val="4e3b30"/>
                </a:solidFill>
                <a:latin typeface="Times New Roman"/>
              </a:rPr>
              <a:t>jesu kanali kojima bi LZ trebala preuzeti brigu  oko 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e3b30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4e3b30"/>
                </a:solidFill>
                <a:latin typeface="Times New Roman"/>
              </a:rPr>
              <a:t>- planiranja i rješavanja vlastitih </a:t>
            </a:r>
            <a:r>
              <a:rPr b="0" lang="hr-HR" sz="2000" spc="-1" strike="noStrike">
                <a:solidFill>
                  <a:srgbClr val="4e3b30"/>
                </a:solidFill>
                <a:latin typeface="Times New Roman"/>
              </a:rPr>
              <a:t>energetskih</a:t>
            </a:r>
            <a:r>
              <a:rPr b="0" lang="hr-HR" sz="1800" spc="-1" strike="noStrike">
                <a:solidFill>
                  <a:srgbClr val="4e3b30"/>
                </a:solidFill>
                <a:latin typeface="Times New Roman"/>
              </a:rPr>
              <a:t> problema;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	</a:t>
            </a:r>
            <a:r>
              <a:rPr b="0" lang="hr-HR" sz="18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- participacije u razvoju opće energetske politike i sektora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Strategija razvoja predviđa participaciju L</a:t>
            </a:r>
            <a:r>
              <a:rPr b="0" lang="hr-HR" sz="1800" spc="-1" strike="noStrike">
                <a:solidFill>
                  <a:srgbClr val="4e3b30"/>
                </a:solidFill>
                <a:latin typeface="Arial"/>
                <a:ea typeface="华文楷体"/>
              </a:rPr>
              <a:t>Z</a:t>
            </a:r>
            <a:r>
              <a:rPr b="0" lang="hr-HR" sz="18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kroz energetske urede, NEP .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Rounded Rectangle 2"/>
          <p:cNvSpPr/>
          <p:nvPr/>
        </p:nvSpPr>
        <p:spPr>
          <a:xfrm>
            <a:off x="971640" y="2852640"/>
            <a:ext cx="7630920" cy="10080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PROMJE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  </a:t>
            </a:r>
            <a:r>
              <a:rPr b="1" lang="hr-HR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zahvaljujući, paradoksalno, upravo utjecaju globalne  energetske krize i globalnog zatoplj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unded Rectangle 2"/>
          <p:cNvSpPr/>
          <p:nvPr/>
        </p:nvSpPr>
        <p:spPr>
          <a:xfrm>
            <a:off x="468360" y="4508640"/>
            <a:ext cx="5040360" cy="1368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4e3b3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smanjenju  emisije stakleničkih plinova za 20%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e3b3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smanjenju potrošnje energije za 20% (UŠTEDE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e3b3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povećanju udjela OI energije  za 20 %</a:t>
            </a:r>
            <a:r>
              <a:rPr b="0" lang="hr-HR" sz="1800" spc="-1" strike="noStrike">
                <a:solidFill>
                  <a:srgbClr val="4e3b30"/>
                </a:solidFill>
                <a:latin typeface="Arial"/>
                <a:ea typeface="华文楷体"/>
              </a:rPr>
              <a:t> </a:t>
            </a:r>
            <a:r>
              <a:rPr b="0" lang="en-US" sz="1800" spc="-1" strike="noStrike">
                <a:solidFill>
                  <a:srgbClr val="4e3b3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-20880" y="4052880"/>
            <a:ext cx="8190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EU- strategijske odluke do 2020 (ovisnosti o uvozu energenata i emisiji CO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ounded Rectangle 2"/>
          <p:cNvSpPr/>
          <p:nvPr/>
        </p:nvSpPr>
        <p:spPr>
          <a:xfrm>
            <a:off x="6156360" y="4653000"/>
            <a:ext cx="2592360" cy="136836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4e3b30"/>
                </a:solidFill>
                <a:latin typeface="Times New Roman"/>
                <a:ea typeface="华文楷体"/>
              </a:rPr>
              <a:t>NIJE MOGUĆE BEZ PARTICIPACIJE L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9"/>
          <p:cNvSpPr/>
          <p:nvPr/>
        </p:nvSpPr>
        <p:spPr>
          <a:xfrm>
            <a:off x="5580000" y="5084640"/>
            <a:ext cx="432000" cy="360360"/>
          </a:xfrm>
          <a:prstGeom prst="pie">
            <a:avLst/>
          </a:prstGeom>
          <a:solidFill>
            <a:srgbClr val="f0a22e"/>
          </a:solidFill>
          <a:ln w="0">
            <a:noFill/>
          </a:ln>
          <a:effectLst>
            <a:outerShdw dist="17819" dir="2700000" blurRad="0" rotWithShape="0">
              <a:srgbClr val="9061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e3b30"/>
                </a:solidFill>
                <a:latin typeface="Franklin Gothic Medium"/>
              </a:rPr>
              <a:t>Participcija LZ: dva kanala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 PROGRAME TEHNIČKE POMOĆI EU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rogram “Inteligentna energija u Europi” -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mreže lokalnih energetskih agencij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u cilju poticanja EE i OI (RH: tri regionalne energetske agencije)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Energetska agencija sjeverozapadne Hrvatske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Međimurska regionalne energetske agencije (REA)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Istarska regionalna energetska agencija (IRENA)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PROGRAMI MINGORP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Program poticanja energetske efikasnosti i sustavnog gospodarenja energijom - SGE  (“Dovesti svoju kuću u red”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Energetska povelja: obveza racionalnog trošenje energije (85 gradova od 127; 17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županija od 21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Osnivanje ureda za energetsku efikasnost (EE uredi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Su-financiranje EU programa….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4:24:19Z</dcterms:created>
  <dc:creator>jsvarc</dc:creator>
  <dc:description/>
  <dc:language>en-US</dc:language>
  <cp:lastModifiedBy>Jadranka</cp:lastModifiedBy>
  <dcterms:modified xsi:type="dcterms:W3CDTF">2008-10-23T07:36:49Z</dcterms:modified>
  <cp:revision>485</cp:revision>
  <dc:subject/>
  <dc:title>Slide 1</dc:title>
</cp:coreProperties>
</file>