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443-B2AC-477C-9088-4DAEEC51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D146-2BA7-4826-A8A1-9E7A5D75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C36C-A7A8-42DB-B037-60838497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C11-AED3-4CEE-8903-2EA28871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5863-7E73-460F-84D6-3C178DE6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2FE7-33A3-433A-92D1-B4B50DBA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3860-4391-4069-A718-B280E0AB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9D1D-BFBE-4649-B23B-74C0250C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C664-E8BB-4207-8628-0DA493B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4E8C-376B-4C05-A09E-D4F07EB3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A90F-41C8-4619-BCD0-8DE3ABC3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6C4-BEA8-470F-AB7D-83EA842E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CEF0-D474-438E-858E-C1F37D70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BBAA-48F6-4662-8CF9-108D2974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1427-1156-43DA-870D-D4392BF8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CE55-E386-4599-9CE0-7E0988D18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3398-5C73-4996-8B50-03415A02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811-8810-4436-8C4F-D2488F9D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505-151B-4BDF-ADF2-0CCA94A9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8F63-0631-4CF7-8ED5-47D252BC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C184-24C9-42E1-8E64-F7B94F8E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6501-3620-4A6C-B4C8-017D718A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2B4-0348-441C-80DD-1CBC0F8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95F0-C294-449F-947D-8E4712D7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6BDA-6043-4AFB-BAAB-E814D01B37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35C7-8762-4482-BA7F-FA77567A82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nergetska sigurnost i kritična infrastruktur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43927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vnatelj IROS-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brigadi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rof.dr.sc. Dario Mati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4654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95280" y="3645000"/>
          <a:ext cx="1368360" cy="129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3645000"/>
                    <a:ext cx="1368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1512720" cy="1179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804000" y="3357720"/>
            <a:ext cx="1584360" cy="1223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380360" y="3500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VO 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932360" y="4797360"/>
            <a:ext cx="1657440" cy="108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093080" y="4797360"/>
            <a:ext cx="1224000" cy="1152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105520" y="6165000"/>
            <a:ext cx="357300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KVADRA SAVJETOVANJE d.o.o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679920" y="3138480"/>
          <a:ext cx="1785960" cy="58104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679920" y="3138480"/>
          <a:ext cx="1785960" cy="58104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7667640" y="333360"/>
            <a:ext cx="111276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59E4-A418-4D10-90C6-6C05593A31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Glavni naglas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8920" y="2017440"/>
            <a:ext cx="8775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Netradicionalne prijetnj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zaštita kritične infrastruk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ije oblikoval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zajedničku energetsku politiku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težava njezino djelovan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u smanjivanju ovisnosti od uvoza energenata iz Rusij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ioritet EU-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- izgraditi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igurniju pozicij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z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ugoročni protok energij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ema tržištima koja tu energiju trebaju i mogu je vrlo brzo platit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2A48-23C2-41D4-94CD-39D68CD445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Glavni naglas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877572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Hrvatsk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doprinositi globalnoj sigurnosti i stabil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adz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predmet sukoba i sigurnosnih kri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ojačati svoje međunarodne aktiv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najsnažniji čimbeni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ozitivnog stanja na tržištu energenat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gospodarstv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- mora se dobro pripremiti za prihva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rećeg paketa mjera Europske komisije o tržištu električne energije i plin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iz rujna, 2007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CEB-AA17-4341-AD8A-CF1314FD0E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ktroenergetski sustav (E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01744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azlučivanj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zmeđu pouzdanosti i sigurnost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uzda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dnos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aspoloživos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ški interes tvrtki u elektroenergetskom sektoru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igur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je svega nacionalni interes drža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Upravljanje rizici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razviti modele sigurnosnih procjena elektroenergetskog sust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vezanih rizik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ji proizlaze iz međuovisnosti infrastrukturnih sustava (energetski, telekomunikacijski, i sl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E918-9D36-4859-A594-D33FEAEAC4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Kritičnost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EES-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41536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međusobna povezanost infrastruktur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zahtijevaju posebnu pozornost kod </a:t>
            </a: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planiranja i pogon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cc"/>
                </a:solidFill>
                <a:latin typeface="Arial"/>
              </a:rPr>
              <a:t>učinkovitos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užna je uključenost svih sudionika (vlada, industrija, znanost, javnost i sl.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ređivanje </a:t>
            </a: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vlasništva i odgovornosti za rizik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3333cc"/>
                </a:solidFill>
                <a:uFillTx/>
                <a:latin typeface="Arial"/>
              </a:rPr>
              <a:t>pojam </a:t>
            </a:r>
            <a:r>
              <a:rPr b="1" i="1" lang="hr-HR" sz="2800" spc="-1" strike="noStrike" u="sng">
                <a:solidFill>
                  <a:srgbClr val="3333cc"/>
                </a:solidFill>
                <a:uFillTx/>
                <a:latin typeface="Arial"/>
              </a:rPr>
              <a:t>“governance”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mjesto </a:t>
            </a:r>
            <a:r>
              <a:rPr b="0" i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upravlj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ako bi se naglasila sveobuhvatnost i uključivanje svih sudionika u proces odlučiva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918-130F-4A23-BAA4-B38544C0BE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lastite obve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vaka država i dalje mora brinut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a opskrba krajnjih kupaca energijom bude regulirana na način da s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zaštiti javni interes i opće dob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gurnos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skrbe električnom energijom i prirodnim plinom 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sobnost elektroenergetskog sustava i plinskog sustava da opskrbi krajnje kupce električnom energijom i prirodnim plinom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hvatljive kvalitete i cij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944-7EFD-4CF4-8F28-A1599F3F40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ijene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talno mijenjanje cijena naft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2133360"/>
            <a:ext cx="8775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ržište energij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šlo je u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vu etap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oguće nestabilnosti i poremeća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tjecaj tih globalnih događaj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itno određuje energetsku strategiju malih zemalj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sljedi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tualizirana j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treba za štednjom energ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za razvitak strateških zaliha primarne energi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intenziviranje razvitka vlastitih strateških zali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fte i pl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6E6-B84C-4228-AD6D-411F6E5135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ZAKLJUČ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vedena istraživanj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no se vidi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vezanost, međuovisnost i velika ranjiv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ritične infrastrukture, pa tako  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ktroenergetskog sustav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a suvremene nekonvencionalne prijetn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rebno je kroz odgovarajuće analize i modeliranje, razviti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eventivni prist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ji će ići u susret prijetnji, a ne kurativni koji će liječiti štete nastale ostvarenjem prijetnj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DEF4-4AF7-4C54-A14E-199C00C480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ZAKLJUČN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dine institucije, poslovni subjekti, znanosti i ostali subjekti društv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zvani su djelovati u tom područj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ije ni obaveza ni privilegija samo državni institucija, već zahtjeva sinergiju i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eđuresornu suradnju vladinih i nevladinih institucija, državnog odnosno privatnog sektora, i znan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3B61-F1B2-4E13-B5AB-0A1D398DCC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333399"/>
                </a:solidFill>
                <a:latin typeface="Tahoma"/>
              </a:rPr>
              <a:t>Predsjednik Europske komisije </a:t>
            </a:r>
            <a:r>
              <a:rPr b="0" i="1" lang="hr-HR" sz="3600" spc="-1" strike="noStrike">
                <a:solidFill>
                  <a:srgbClr val="333399"/>
                </a:solidFill>
                <a:latin typeface="Tahoma"/>
              </a:rPr>
              <a:t>Jose Emanuel Barros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tvoreno i nepristrano energetsko tržište vitalno je važno za suočavanje Europske unije s izazovima klimatskih promjena, rastom ovisnosti o uvozu energenata i globalnom kompetencijom"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P/07/ 13671, Brusseles, 19. rujan 2007. g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76720" y="1125360"/>
            <a:ext cx="1582920" cy="1519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77080" y="1268280"/>
            <a:ext cx="1981080" cy="13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6971-F18D-477D-A055-1D28AD7B26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reći paket mjera Europske komisije o tržištu električne energije i plina  iz rujan 2007. godin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čka 6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radnja radi sigurnosti opskrb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gurnost nadzor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pskrbe od strane operatora prijenosnog sustav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 slučaju električne energije spomenuti uvjet povlač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odgovarajuće kapaciteta generiranja električne energije (izvore) 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odgovarajuće kapacitete transporta od izvora do krajnjih potrošača (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infrastruktu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B71A-A7C1-43EE-9BFF-B4A17C9F8C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NAT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(Novi koncept, Berli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1600200"/>
            <a:ext cx="8785440" cy="1181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843280" y="299736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2376360" cy="1623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76720" y="2924280"/>
            <a:ext cx="3151440" cy="338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537080" cy="12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3DA-60A4-4999-8A11-89A9412DF9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280" y="333360"/>
            <a:ext cx="765324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Znanstveni forum o sigurnosti okoliša u okviru NATO – Programa “Znanost za mir i sigurnos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2. ožujka 2008. godine, Bris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OVI IZAZO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onitoring okoliš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Energetska sigurn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štita morskog d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VA područja – dodana vrijednost NATO-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442200" y="5958000"/>
            <a:ext cx="2701800" cy="900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651640" y="3068640"/>
            <a:ext cx="1645920" cy="2158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308720" y="2492280"/>
            <a:ext cx="2017800" cy="22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Assistant Secretary General for Public Diplom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ean-François Bur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58E3-91F2-4057-8938-5B702D3711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"</a:t>
            </a:r>
            <a:r>
              <a:rPr b="0" i="1" lang="hr-HR" sz="4000" spc="-1" strike="noStrike">
                <a:solidFill>
                  <a:srgbClr val="333399"/>
                </a:solidFill>
                <a:latin typeface="Tahoma"/>
              </a:rPr>
              <a:t>NATO poslije Bukurešta"</a:t>
            </a:r>
            <a:r>
              <a:rPr b="0" lang="hr-HR" sz="40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objavljenog u travnju ove godine </a:t>
            </a:r>
            <a:r>
              <a:rPr b="0" i="1" lang="hr-HR" sz="2400" spc="-1" strike="noStrike">
                <a:solidFill>
                  <a:srgbClr val="333399"/>
                </a:solidFill>
                <a:latin typeface="Tahoma"/>
              </a:rPr>
              <a:t>(NATO Public Diplomacy Division)</a:t>
            </a:r>
            <a:r>
              <a:rPr b="0" lang="hr-HR" sz="2400" spc="-1" strike="noStrike">
                <a:solidFill>
                  <a:srgbClr val="333399"/>
                </a:solidFill>
                <a:latin typeface="Tahoma"/>
              </a:rPr>
              <a:t>, u poglavlju "</a:t>
            </a:r>
            <a:r>
              <a:rPr b="0" i="1" lang="hr-HR" sz="2400" spc="-1" strike="noStrike">
                <a:solidFill>
                  <a:srgbClr val="333399"/>
                </a:solidFill>
                <a:latin typeface="Tahoma"/>
              </a:rPr>
              <a:t>U susret novim izazovima"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izvješće o NATO-voj ulozi u području </a:t>
            </a:r>
            <a:r>
              <a:rPr b="1" i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energetske sigurnosti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 …. u </a:t>
            </a:r>
            <a:r>
              <a:rPr b="0" i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pet ključnih područja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gdje NATO može dati značajan doprinos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udruživanje i razmjena informacija te razmjena tajnih podataka;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projiciranje stabilnosti;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unapređivanje međunarodne i regionalne suradnje,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podupiranje upravljanja posljedicama; i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podupiranje </a:t>
            </a:r>
            <a:r>
              <a:rPr b="1" i="1" lang="hr-HR" sz="2600" spc="-1" strike="noStrike" u="sng">
                <a:solidFill>
                  <a:srgbClr val="000000"/>
                </a:solidFill>
                <a:uFillTx/>
                <a:latin typeface="Arial"/>
              </a:rPr>
              <a:t>zaštite kritične infrastrukture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"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hr-HR" sz="24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i="1" lang="hr-HR" sz="2400" spc="-1" strike="noStrike" u="sng">
                <a:solidFill>
                  <a:srgbClr val="3333cc"/>
                </a:solidFill>
                <a:uFillTx/>
                <a:latin typeface="Arial"/>
              </a:rPr>
              <a:t>apredak biti ocjenjivan na sastanku na vrhu 2009. godine</a:t>
            </a:r>
            <a:r>
              <a:rPr b="1" lang="hr-HR" sz="2400" spc="-1" strike="noStrike" u="sng">
                <a:solidFill>
                  <a:srgbClr val="3333cc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A25-3AB0-4011-8776-AFE115894E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ahoma"/>
              </a:rPr>
              <a:t>PROJEKT</a:t>
            </a:r>
            <a:r>
              <a:rPr b="1" lang="en-US" sz="60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ahoma"/>
              </a:rPr>
              <a:t>pregled istraživačkih rezultata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4319640" cy="592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00720" y="260280"/>
            <a:ext cx="1112760" cy="136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0A83-AB30-4743-9913-7BAFA6F1F0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Glavni cilj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projek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86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ran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ične infrastrukture energetskog sustava i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avnih utjeca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oji mogu ugroziti sigurnosne i obrambene mehanizm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jen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vih standar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 prosudbu rizik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zrada odgovarajućih mode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 simulaciju prijetn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daća projek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razviti novu metodologiju i projektna rješe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iša razinu sigurnosti elektroenergetskog sustava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tinuirano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implementirati dostignuta rješenja i rezultate istraživan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E40-8F3D-47BA-840A-0283F399B3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99"/>
                </a:solidFill>
                <a:uFillTx/>
                <a:latin typeface="Tahoma"/>
              </a:rPr>
              <a:t>Okrugli stol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27. veljače 2008. godine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 organizaciji Fakultetu političkih znanosti u Zagrebu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70408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vo stručno razmatran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- skretanje pozornosti šire javnosti</a:t>
            </a:r>
            <a:fld id="{D6D8ACE0-09D9-4842-8CA6-3715014D0AB6}" type="slidenum">
              <a:rPr b="1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avljeni radov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ali su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rikaz globalnih trendova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u navedenom području, kao 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rikaz sadašnjeg stanja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hrvatske energetske infrastrukture, 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ponudili odgovor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na neka pitanja vezana za njezin dalji razvoj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bornik radova 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“Energetska sigurnost i kritična infrastruktur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31280" y="189000"/>
            <a:ext cx="1512720" cy="117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E14E-4A97-4F1F-8D32-601124E20D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2T11:44:01Z</dcterms:created>
  <dc:creator>dmatika</dc:creator>
  <dc:description/>
  <dc:language>en-US</dc:language>
  <cp:lastModifiedBy>dmatika</cp:lastModifiedBy>
  <dcterms:modified xsi:type="dcterms:W3CDTF">2008-10-28T13:08:54Z</dcterms:modified>
  <cp:revision>8</cp:revision>
  <dc:subject/>
  <dc:title>Energetska sigurnost i kritična infrastruktura</dc:title>
</cp:coreProperties>
</file>