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44B-A642-4824-966D-0598A639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230-F89D-4E15-B885-B1C0D35B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C24-F012-4E35-B520-8FA912EB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74C-B489-4156-846F-7D0B6206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0C55-60D8-43BD-9586-E4097F40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A38B-0D91-4631-B481-5206E28C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FC57-C709-46CD-9E70-B62FF768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D8F7-043B-4D84-B745-F549730B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855FD-4002-4A16-9120-9C079E2E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8230-8898-4806-A053-1CBD60AB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3721-5E9E-4562-BE2F-B948490B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7C0-FD64-481B-B849-179AC12C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7DAB-F5DA-4CF4-AF46-C7F232E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B254-BF4C-40E2-97CA-E7012CD5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C9A9-078B-48FD-B120-F406340E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4710-E050-4C26-B526-F4367125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B54F-1528-4495-91C7-13389CF5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0757-C149-4809-97EA-7E6E2F0F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35F-03D0-42BB-A237-453E9476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BE3-6BC2-432B-93AB-CE1E0369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F16-24FA-420A-8141-D5E1C204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588-AE5B-4784-8DF8-41C5B1E3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F87-80AD-49D3-954C-3C3C8748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26D-88A6-452F-B262-D2DCE069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0733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3D8C-8E13-4C32-94B2-A4217D8321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28600" y="152280"/>
            <a:ext cx="990360" cy="685440"/>
            <a:chOff x="228600" y="152280"/>
            <a:chExt cx="990360" cy="685440"/>
          </a:xfrm>
        </p:grpSpPr>
        <p:sp>
          <p:nvSpPr>
            <p:cNvPr id="46" name=""/>
            <p:cNvSpPr/>
            <p:nvPr/>
          </p:nvSpPr>
          <p:spPr>
            <a:xfrm>
              <a:off x="228600" y="334800"/>
              <a:ext cx="473400" cy="3200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5920" y="334800"/>
              <a:ext cx="473040" cy="320040"/>
            </a:xfrm>
            <a:prstGeom prst="diamond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6720" y="517680"/>
              <a:ext cx="474480" cy="320040"/>
            </a:xfrm>
            <a:prstGeom prst="diamond">
              <a:avLst/>
            </a:prstGeom>
            <a:solidFill>
              <a:srgbClr val="00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720" y="152280"/>
              <a:ext cx="474480" cy="320040"/>
            </a:xfrm>
            <a:prstGeom prst="diamond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6975360" y="152280"/>
            <a:ext cx="2168280" cy="602640"/>
            <a:chOff x="6975360" y="152280"/>
            <a:chExt cx="2168280" cy="602640"/>
          </a:xfrm>
        </p:grpSpPr>
        <p:graphicFrame>
          <p:nvGraphicFramePr>
            <p:cNvPr id="51" name=""/>
            <p:cNvGraphicFramePr/>
            <p:nvPr/>
          </p:nvGraphicFramePr>
          <p:xfrm>
            <a:off x="6975360" y="152280"/>
            <a:ext cx="506520" cy="532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975360" y="152280"/>
                      <a:ext cx="506520" cy="5320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3" name=""/>
            <p:cNvSpPr/>
            <p:nvPr/>
          </p:nvSpPr>
          <p:spPr>
            <a:xfrm>
              <a:off x="7481880" y="342000"/>
              <a:ext cx="166176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Black"/>
                  <a:ea typeface="Times New Roman"/>
                </a:rPr>
                <a:t>HEP d.d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DF44-D69D-462C-8EAB-B3F4B14745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00200" y="152280"/>
            <a:ext cx="556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2209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  <a:ea typeface="Times New Roman"/>
              </a:rPr>
              <a:t>Pouzdanost elektroenergetskog sustava Hrvatske za planirani period izgradnje novih proizvodnih i prijenosnih kapacit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228600"/>
            <a:ext cx="49021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79440" y="189000"/>
            <a:ext cx="3076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ktrotehnički fakulte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ijek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8240" y="45054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edrag Marić dipl.in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4043520"/>
            <a:ext cx="418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Prof.dr.sc. Srete Nikolovski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dipl.in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4038480"/>
            <a:ext cx="365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r.sc. Ivan Mravak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dipl.in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495680"/>
            <a:ext cx="37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Mr.sc. Goran Slipac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dipl.in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152280"/>
            <a:ext cx="27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račun pouzd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neratorski pokazatelj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676520"/>
            <a:ext cx="815364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[1/god] – U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lost promjene snage generatora u odnosu na planira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[h] – Prosje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godišnje trajanje promjene snage generatora u sustavu u odnosu na planira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[min/god] – Vjerojatnost promjene snage generatora u sustavu u odnosu na planira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[MW/god]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– Ukupna promjen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nage generatora u odnosu na planira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[MWh/ god] – Ukupna promjen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nergije generatora u odnosu na planiran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19320" y="609480"/>
            <a:ext cx="61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1197000"/>
            <a:ext cx="8153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Slučaj a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 - Rezultati proračuna s postojećim interkonekcijama sa susjednim mrežama uz ograničenja neto raspoloživim kapacitetima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za 2007 godi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547640" y="1916280"/>
          <a:ext cx="662472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16280"/>
                    <a:ext cx="662472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1547640" y="4869000"/>
          <a:ext cx="6627960" cy="143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869000"/>
                    <a:ext cx="6627960" cy="14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1447920" y="228600"/>
            <a:ext cx="27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oračun pouzd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EPLAN -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228600"/>
            <a:ext cx="27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oračun pouzd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EPLAN -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12536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Slučaj b 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- Rezultati proračuna s postojećim interkonekcijama sa susjednim mrežama uz ograničenja neto raspoloživih kapaciteta za rast opterećenja do 2015. godine i bez ulaganja u nove proizvodne kapacite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600200" y="2060640"/>
          <a:ext cx="5851440" cy="28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60640"/>
                    <a:ext cx="5851440" cy="28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1600200" y="4952880"/>
          <a:ext cx="5851440" cy="13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952880"/>
                    <a:ext cx="585144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1447920"/>
            <a:ext cx="842472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ez investiranja u nove proizvodne objekte do 2015. godine, s postoje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m interkonekcijama, te stopom rasta 3.5%, ukupna bi potrošnja dosegla oko 21.540,00 GW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zme li se ve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stopa rasta od primjerice 4 ili 5 %, </a:t>
            </a:r>
            <a:r>
              <a:rPr b="0" lang="hr-HR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pouzdanost sustava bi se znatno narušil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vakvo stanje bi bilo nedopustivo i veoma bi oslabilo EES Hrvatske, te dovelo do narušavanja sigurnosti normalne opskr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alizom tokova snaga za ovaj slučaj se pokazalo i da bi veliki broj vodova na 110 kV razini bio preoptereć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95280" y="1197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Slučaj c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- Rezultati proračuna EES-a Hrvatske s novim interkonekcijama sa susjednim mrežama uz ograničenja neto raspoloživim kapacitetima za rast opterećenja do 2015. godine uključujući sva planirana ulaganjima u nove proizvodne kapacite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676520" y="2349360"/>
          <a:ext cx="5781600" cy="26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349360"/>
                    <a:ext cx="5781600" cy="26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1676520" y="5029200"/>
          <a:ext cx="5773680" cy="11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5029200"/>
                    <a:ext cx="577368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447920" y="228600"/>
            <a:ext cx="27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oračun pouzd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EPLAN -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47920" y="228600"/>
            <a:ext cx="36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sporedba rezult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kazatelja CAIFI i CAI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141560"/>
          <a:ext cx="447840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1560"/>
                    <a:ext cx="447840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538520" y="2567160"/>
          <a:ext cx="4464360" cy="33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38520" y="2567160"/>
                    <a:ext cx="4464360" cy="33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324000" y="429264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lik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sporedba pokazatelja CAIF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81400" y="5877000"/>
            <a:ext cx="43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lik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sporedba pokazatelja CA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447920" y="228600"/>
            <a:ext cx="276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sporedba rezultata 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emljama E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1014480"/>
          <a:ext cx="4619520" cy="30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14480"/>
                    <a:ext cx="4619520" cy="30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572000" y="2971800"/>
          <a:ext cx="4572000" cy="32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971800"/>
                    <a:ext cx="45720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4699080" y="1806480"/>
            <a:ext cx="33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ka 6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sporedba pokazatelja CAIFI Hrvatske sa zemljama EU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6080" y="5229360"/>
            <a:ext cx="391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ka 7.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Usporedba pokazatelja CAI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 Hrvatske s zemljama EU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1895040" y="2454120"/>
            <a:ext cx="1668600" cy="637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6473880" y="4597560"/>
            <a:ext cx="1673280" cy="32688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447920" y="457200"/>
            <a:ext cx="24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KLJUČ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917640"/>
            <a:ext cx="8496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ema broju prekida po potroš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i trajanju  prekida po potroš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godišnje sadašnji EES Hrvatske je pozicioniran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ibližno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u sredini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ljestvic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zemalja EU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Uz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stope rasta 3.5 % iza 2012. godine s </a:t>
            </a:r>
            <a:r>
              <a:rPr b="0" lang="hr-HR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novim dvosistemskim 400 kV vodom </a:t>
            </a: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Ernestinovo–Pecs i 400 kV DC</a:t>
            </a:r>
            <a:r>
              <a:rPr b="0" lang="hr-HR" sz="1800" spc="-1" strike="noStrike">
                <a:solidFill>
                  <a:srgbClr val="ffff66"/>
                </a:solidFill>
                <a:latin typeface="Arial"/>
              </a:rPr>
              <a:t> kabelom</a:t>
            </a:r>
            <a:r>
              <a:rPr b="0" lang="hr-HR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 prema Italiji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te novim proizvodnim kapacitetim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TE-TO Zagreb 100 MW, TE Sisak 230 MW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66"/>
                </a:solidFill>
                <a:latin typeface="Arial"/>
                <a:ea typeface="Times New Roman"/>
              </a:rPr>
              <a:t>TE Slavonija od 400 MW, TE Dalmacija 400 MW ,  TE Plomin 500 MW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natno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s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oboljšavaju vrijednosti pokazatelja pouzdanosti EES Hrvatske na strani potrošnje i proizvodn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Naprotiv, por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st potrošnje el. energije uz god. stopu 3.5% bez ulaganja u nove proizvodne kapacitete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 vodove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zultiralo bi preopter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jem brojnih prijenosnih vodova 110 kV do 2015. godine i narušav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njem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igurnosti i raspolo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ž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vost EES-a Hrvatske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ganja u izgradnju novih proizvodnih kapaciteta i interkonekcijskih vodov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su se ovom kvantitativnom analizom pokazuju opravdani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00200" y="152280"/>
            <a:ext cx="5562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4440" y="1450800"/>
            <a:ext cx="8439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Arial"/>
              </a:rPr>
              <a:t>Uv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Arial"/>
              </a:rPr>
              <a:t>Opis hrvatskog elektroenergetskog sust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Arial"/>
              </a:rPr>
              <a:t>Proračun pouzdan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Arial"/>
              </a:rPr>
              <a:t>Model opterećenja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1" i="1" lang="hr-HR" sz="2800" spc="-1" strike="noStrike">
                <a:solidFill>
                  <a:srgbClr val="ffffff"/>
                </a:solidFill>
                <a:latin typeface="Arial"/>
              </a:rPr>
              <a:t> modeli zastoja    generatora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hr-HR" sz="2800" spc="-1" strike="noStrike">
                <a:solidFill>
                  <a:srgbClr val="ffffff"/>
                </a:solidFill>
                <a:latin typeface="Arial"/>
              </a:rPr>
              <a:t>vodova, transformatora sabirnica i pol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Arial"/>
              </a:rPr>
              <a:t>Pokazatelji pouzdanosti sust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Arial"/>
              </a:rPr>
              <a:t>Rezultati proračuna pouzda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ffff"/>
                </a:solidFill>
                <a:latin typeface="Arial"/>
              </a:rPr>
              <a:t>Zaključ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90720" y="228600"/>
            <a:ext cx="6476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3076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ektrotehnički fakulte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ijek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23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3716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295280"/>
            <a:ext cx="82152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¸Hrvatski elektroenergetski sustav (EES)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ne proizvodni objekti i postrojenja, prijenosna, distribucijska mr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 i potroš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 elektri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 energij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di sigurne i kvalitetne opskrbe kupaca elektri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m energijom i razmjene elektri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 energije, hrvatski EES povezan je sa EES-ima susjednih dr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va u sustav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nica UCTE-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3962520"/>
            <a:ext cx="80769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Zbog svojstvenog zemljopisnog polo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ja i rasporeda proizvodnih objekata, u v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m dijelu godine elektri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 se energija prenosi s juga na sjever i obrnuto, kao i sa sjevera prema istoku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uštanjem u rad novoizgr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e transformatorske stanice 400/220/110 kV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javinec i obnovljene TS 400/110 kV Ernestinovo zn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jno se pov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la energetska mo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i pouzdanost rada hrvatskog EES-a, posebice u njegovom sjeverozapadnom i isto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m dijelu.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76320"/>
            <a:ext cx="3921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S Hrvatske – kratak opi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292428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upci u Hrvatskoj opskrbljuju se el. energijom iz elektrana na podru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ju Hrvatske, iz elektrana izgr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đ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ih u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usjednim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r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ž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vama i nabavom elektri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 energije iz inozemstva.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07960" y="1206360"/>
            <a:ext cx="83818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- Prijenosnu mrežu sačinjavaj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vodov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400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220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kV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10 kV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ukupne duljin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962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k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44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prijenosne transformatorske stan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- U pogonu je i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24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46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srednjenaponski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i niskonaponskih TS - ic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0" y="2374920"/>
          <a:ext cx="4572000" cy="346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374920"/>
                    <a:ext cx="45720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258920" y="76320"/>
            <a:ext cx="4249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S Hrvatske – kratak opi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587700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Op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i podaci o proizvodnji i elektroenergetskoj bilanci EES-a Hrvatske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2387520"/>
          <a:ext cx="4597560" cy="340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387520"/>
                    <a:ext cx="459756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838080"/>
            <a:ext cx="6324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523880"/>
            <a:ext cx="79250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447920" y="152280"/>
            <a:ext cx="29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račun pouzd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lazni podac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049400"/>
            <a:ext cx="84582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 u="sng">
                <a:solidFill>
                  <a:srgbClr val="ffffff"/>
                </a:solidFill>
                <a:uFillTx/>
                <a:latin typeface="Arial"/>
              </a:rPr>
              <a:t>Model opterećenja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Svaki potrošački čvor modeliran je s 12 mjesečnih vršnih vrijednosti opterećenja pomoću apsolutne aproksimac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roksimacija godišnjeg dijagrama s dnevnim ili satnim vršnim opter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jim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nije potrebn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jer se time zn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jno ne utj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 na to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st pror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n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a jako usložnjava is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Chart 2" descr=""/>
          <p:cNvPicPr/>
          <p:nvPr/>
        </p:nvPicPr>
        <p:blipFill>
          <a:blip r:embed="rId1"/>
          <a:stretch/>
        </p:blipFill>
        <p:spPr>
          <a:xfrm>
            <a:off x="1852560" y="2798640"/>
            <a:ext cx="5513400" cy="3240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41200" y="6000840"/>
            <a:ext cx="890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Primjer aproksimacije godišnjeg dijagrama optere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1" lang="hr-HR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nja za potrošnju na 35 kV u TS 110/35 kV Osije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93560" y="1125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zmjena na interkonekcijskim vodovima 400 kV, 220 kV i 110 kV za 2007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godinu modelirana je s 12 mjesečnih razina izmjerenih energija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(uvoz i izvoz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152280"/>
            <a:ext cx="27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račun pouzdanos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lazni podac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494172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rimjer razmjene energije na 400 kV vodu Ernestinovo- S. Mitrov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4520" y="52052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EPLAN software računa optimalne tokove snaga (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OPF)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hr-H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 slu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ju zastoja, algoritam simulira niz mjera koje stoje na raspolaganju disp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rima radi stabilizacije stanja (preraspodjela proizvodnje generatora, podfrekvencijska raster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ja, kompenzacija jalove snage..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hart 3" descr=""/>
          <p:cNvPicPr/>
          <p:nvPr/>
        </p:nvPicPr>
        <p:blipFill>
          <a:blip r:embed="rId1"/>
          <a:stretch/>
        </p:blipFill>
        <p:spPr>
          <a:xfrm>
            <a:off x="2195640" y="1770120"/>
            <a:ext cx="5256000" cy="317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152280"/>
            <a:ext cx="283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račun pouzd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Ulazni podac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6440" y="1143000"/>
            <a:ext cx="80769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800" spc="-1" strike="noStrike" u="sng">
                <a:solidFill>
                  <a:srgbClr val="ffffff"/>
                </a:solidFill>
                <a:uFillTx/>
                <a:latin typeface="Arial"/>
              </a:rPr>
              <a:t>Model zastoja dalekovoda, transformatora, generatora, polja i sabirnica j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- Markovljev model komponente s dva stanja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057400" y="2054160"/>
          <a:ext cx="4803840" cy="14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4160"/>
                    <a:ext cx="480384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828800" y="3733920"/>
            <a:ext cx="6172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1 - stanje komponente u pogonu (ispravn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2 - stanje nespremnosti komponente za pogon (kv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hr-HR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intenzitet kvara kompon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hr-HR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- intenzitet popravka komponente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54100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Svi podaci potrebni za kreiranje modela su dobiveni statističkom obradom iz “Statistike pogonskih događaja”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HEP OPS-a </a:t>
            </a: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za razdoblje od 10 godi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71600" y="76320"/>
            <a:ext cx="2984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ES Hrvats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58920" y="795240"/>
            <a:ext cx="6553080" cy="544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95280" y="1268280"/>
            <a:ext cx="8353440" cy="50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AIFI</a:t>
            </a:r>
            <a:r>
              <a:rPr b="1" i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[1/god]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rosj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n godišnji broj prekida u EE sustavu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AIDI</a:t>
            </a:r>
            <a:r>
              <a:rPr b="1" i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[min/god]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rosj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 godišnje trajanje prekida u EE sustav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AIDI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[h]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prosj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 godišnje trajanje jednog prekida potrošač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SAI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[%]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aspoloživost EE susta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[1/god] – Godišnja u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stalost prekida potroš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[h]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– Prosje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o godišnje trajanje jednog prek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Q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[min/god ili h/god] – Neraspoloživost opskrbe potroš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[MW/god] – Ukupna godišnja neisporu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a sna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[MWh/god] –  Ukupna godišnja neisporu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a električna  energi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[EUR/god ili kn/god] – Ukupni godišnja troškovi neisporučene energi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[%] – energetski indeks pouzdanosti                         gdje je W ukupna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godišnja neisporu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a energij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, a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W</a:t>
            </a:r>
            <a:r>
              <a:rPr b="0" i="1" lang="hr-HR" sz="1800" spc="-1" strike="noStrike" baseline="-30000">
                <a:solidFill>
                  <a:srgbClr val="ffffff"/>
                </a:solidFill>
                <a:latin typeface="Arial"/>
                <a:ea typeface="Times New Roman"/>
              </a:rPr>
              <a:t>uk</a:t>
            </a:r>
            <a:r>
              <a:rPr b="0" i="1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ukupna godišnja isporu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na energij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52280"/>
            <a:ext cx="290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račun pouzdanost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ustavni pokazatelj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427640" y="5300640"/>
          <a:ext cx="1368360" cy="57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5300640"/>
                    <a:ext cx="13683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nergetska sigurnost i kritična infrastruktura 29.10.2008 Zagreb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1:17:37Z</dcterms:created>
  <dc:creator>Predrag Maric</dc:creator>
  <dc:description/>
  <dc:language>en-US</dc:language>
  <cp:lastModifiedBy>Srete</cp:lastModifiedBy>
  <dcterms:modified xsi:type="dcterms:W3CDTF">2008-10-28T22:08:29Z</dcterms:modified>
  <cp:revision>63</cp:revision>
  <dc:subject/>
  <dc:title>PowerPoint Presentation</dc:title>
</cp:coreProperties>
</file>