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005638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38FF-1A73-4CDF-87F9-32CB0486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7F6-DB7C-4F39-A52E-CB792A1B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549B-F8DA-46B9-A571-6EBCD5FB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420E-8D3E-4269-A86E-E0C1AB16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63FF-F3B3-431B-9721-22CB6DCBE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80FC-0BB0-459F-B8A7-55B5FD39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18C-CE28-4927-986A-1A47A6B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EE6C-C77F-4391-A0A0-ABC873BA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075D-7070-4BE3-9D5F-BDCAB55F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F19E-2585-49C1-AA99-54F0237D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2A25-024E-4214-A87D-9735506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938-7D77-4DE4-AAAF-5FD334B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382A-18DF-4CCF-8732-2D3B45A4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8806-CDBD-44B7-BE47-8E9B02D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465F-00CC-4D47-9F11-3C637582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7CB8-0BF3-42F5-BA10-97F2A98D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B4D6-0258-4D08-BD3E-A0B7C12C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7D61-9710-4646-9EEB-073DECBA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507E-427D-4C1D-AFF3-546DAA7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A55A-D793-42CB-887B-3205415BB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7375-CAFA-49AA-9620-3DEC003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7AD91-769F-4FC8-92F3-1F061E79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E649-DD81-4297-99F0-31A1924B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AF1B-B899-4884-AC9A-B94E217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6F8E8-833F-4C61-BDFB-1F2DF6E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FD26E-84AC-40B0-92E8-FAD743D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C0EA9-26B9-47BC-B37C-19077117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F7FE0-0467-4E84-8CFD-DB3114EC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2DE26-5F33-4716-9EC8-B88384D8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BBB0E-5D4A-4988-8376-0859B1E4A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D4CA-7389-408E-8363-FDF30AFE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9BC0-D038-4EC4-A11D-32DC0A79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F19D-2204-4939-AC78-B82137D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A4D4-373E-4329-AC20-255B43A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136B-DB24-49ED-9E73-A6914657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13E-7DAA-4CBD-A419-C0AE9155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3AC1-3189-479D-B879-5517C68DF16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D8D7-3C43-4976-9A5A-4EBFD25913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0" y="2286000"/>
            <a:ext cx="9144000" cy="107172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ravokutnik 7"/>
          <p:cNvSpPr/>
          <p:nvPr/>
        </p:nvSpPr>
        <p:spPr>
          <a:xfrm>
            <a:off x="7143840" y="2236680"/>
            <a:ext cx="1706400" cy="112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3" descr=""/>
          <p:cNvPicPr/>
          <p:nvPr/>
        </p:nvPicPr>
        <p:blipFill>
          <a:blip r:embed="rId2"/>
          <a:stretch/>
        </p:blipFill>
        <p:spPr>
          <a:xfrm>
            <a:off x="7124760" y="2143080"/>
            <a:ext cx="1805040" cy="1239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048E-1820-4413-B2F7-26A54472A835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231C-8DAA-4853-8B7D-A32BD692123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26"/>
          <p:cNvSpPr/>
          <p:nvPr/>
        </p:nvSpPr>
        <p:spPr>
          <a:xfrm>
            <a:off x="0" y="357120"/>
            <a:ext cx="9144000" cy="64296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ravokutnik 7"/>
          <p:cNvSpPr/>
          <p:nvPr/>
        </p:nvSpPr>
        <p:spPr>
          <a:xfrm>
            <a:off x="7715160" y="306360"/>
            <a:ext cx="9064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3" descr=""/>
          <p:cNvPicPr/>
          <p:nvPr/>
        </p:nvPicPr>
        <p:blipFill>
          <a:blip r:embed="rId2"/>
          <a:stretch/>
        </p:blipFill>
        <p:spPr>
          <a:xfrm>
            <a:off x="7707240" y="357120"/>
            <a:ext cx="936720" cy="642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ED258-F1BA-4650-8DB3-71FD9A47F97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EA2E-11B3-4EB7-8C22-B02C82FDA2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2920" y="2071440"/>
            <a:ext cx="7500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gled temeljnih načela i mogućih metoda za kvantitativnu procjenu rizika vezanog za kritičnu infrastrukturu energetskog sus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30040" y="3459240"/>
            <a:ext cx="53420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van Vrbanić, Ivica Baši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PoSS d.o.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vec 23B, HR-49210 Zabok, Croat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285840" y="343080"/>
            <a:ext cx="80722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Okrugli st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«Energetska sigurnost i kritična infrastruktur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FER-IROS, Zagreb, 29. listopad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285840" y="5794200"/>
            <a:ext cx="4572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Izlagač: 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Ivan Vrbanić, APoSS d.o.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Metodologija u razvoju, iako postoji veliki broj studija i mode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Temeljna načela su ista: analiza opasnosti odn. "</a:t>
            </a:r>
            <a:r>
              <a:rPr b="0" lang="hr-HR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prijetnje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", ranjivosti i posljed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Američke studije (SNL) ističu kao jedan od glavnih problem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Većina podataka potrebnih za karakterizaciju prijetnje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ije dostupna za opću uporab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jer se tiče državne sigurnosti i obrambene strategi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eophoda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todološki okv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koji će omogućiti da se svak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pecifična prijetn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dakle, ime i prezime neprijatelja, njegova organiziranost i potencijali itd…) prikaž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 defini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k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ributa koji nisu klasificiran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Opasnosti od namjernog djel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43040" y="2786040"/>
          <a:ext cx="5680080" cy="611280"/>
        </p:xfrm>
        <a:graphic>
          <a:graphicData uri="http://schemas.openxmlformats.org/drawingml/2006/table">
            <a:tbl>
              <a:tblPr/>
              <a:tblGrid>
                <a:gridCol w="1914480"/>
                <a:gridCol w="365040"/>
                <a:gridCol w="1517760"/>
                <a:gridCol w="641520"/>
                <a:gridCol w="1241280"/>
              </a:tblGrid>
              <a:tr h="61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JERODOSTOJNOST PRIJET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ACIJA POČINITE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SOBNOST POČINITE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7357-8B16-43E4-97FF-9F36FC17415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A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naliza </a:t>
            </a:r>
            <a:r>
              <a:rPr b="0" lang="vi-VN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prijetnje od terorizma 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za KI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 EES-a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 sadrži sljedećih </a:t>
            </a:r>
            <a:r>
              <a:rPr b="0" lang="vi-VN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pet ključnih elemenata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kacija neprijatelja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arakterizacija prijetnje u smislu motiviranosti i sposobnost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utvrđivanje mogućih putova i načina napad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ranjivost)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kacija najbolje strategije za ograničavanje riz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Opasnosti od namjernog djelo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zervirano mjesto broja slajd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41E2-0220-45A9-8729-21BAFA319C3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Kvantitativna analiza rizika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o programa zaštite kritičnih infrastruktura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moguć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v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uspoređivanje kritičnost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jedinih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dijelova infrastrukture i strategija za zaštitu i ograničavanje posljedic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etodologija za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ormalne i izvanredne opasnosti je razvijena i dostup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todologija za opasnosti od namjernog djelovanja je novija disciplina, ali postavljeni su joj temelji u brojnim studija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koliko se zaštiti KI pristupa kao nacionalnom interesu, neophodno formalno definirati ciljeve programa i stvoriti okvir za suradnju između elemenata državnih službi i elemenata odgovornih za rad i projekt KI-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Zaključ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zervirano mjesto broja slajda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6176-1BB5-4529-96D7-76448CF8BF0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pojmu kritične infrastruk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Temeljna načela kvantitativne procjene rizika KI-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Vrste</a:t>
            </a:r>
            <a:r>
              <a:rPr b="0" lang="fi-FI" sz="2000" spc="-1" strike="noStrike">
                <a:solidFill>
                  <a:srgbClr val="454e53"/>
                </a:solidFill>
                <a:latin typeface="Arial"/>
                <a:ea typeface="Arial"/>
              </a:rPr>
              <a:t> opasnosti kojima je izložen 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Normalne opas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Izvanredne opas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Opasnosti od namjernog djelo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Zaključ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75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Pregled izlag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067360" y="144792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zervirano mjesto broja slajda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DC04-EA45-4964-9584-682170EA28A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6840" y="140328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Kritične infrastruktu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frastrukture koje su toliko bitne da bi njihova umanjena učinkovitost ili uništenje oslabilo obr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enu moć ili ekonomsku sigurnost držav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AD, 1997. radno tijelo predsjednika Clinto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Definicija 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EES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-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čije su temeljne značajke elektrane, te prijenosne i razdjelne mreže koje opskrbljuju krajnje korisnike električnom energijom na način da ovi postižu i održavaju svoju nominalnu funkcional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Cilj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zaštite 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kritične infrastrukture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Bilo koji fizički ili virtualni prekid rada KI-a mora biti događaj koji je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ijedak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ratak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emljopisno ograničenog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učinka,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pravljiv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jmanje moguće škodljivos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po ekonomiju, funkcioniranje javnih i vladinih ustanova, te nacionalnu sigurnos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čuveni zakon USA PATRIOT, listopad 200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757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O pojmu kritič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5067360" y="144792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zervirano mjesto broja slajda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4186-EAE8-4D8D-B44A-1F4DED49F1A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Kvantitativna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 procjena rizika omogućava </a:t>
            </a:r>
            <a:r>
              <a:rPr b="0" lang="hr-HR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usporedb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ed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jedinih dijelov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I-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smjerava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zašt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a one dijelove iz kojih proizlazi najveći rizik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ed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jedinih strateg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a uspostavljanje zašti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 optimal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strateg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činkovitost 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št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 smislu odstranjivanja rizik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avda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 smislu cijene i sredstav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oredb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jedinih scenarij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ji doprinose rizik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điva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ptimaln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jelovanj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 slučaju nužde 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svođen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sljedi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a najmanju moguću mjer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meljna načela kvantitativne procjene rizika KI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D112-134B-4A54-8269-C9D9C1C217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ravokutnik 6" descr=""/>
          <p:cNvPicPr/>
          <p:nvPr/>
        </p:nvPicPr>
        <p:blipFill>
          <a:blip r:embed="rId1"/>
          <a:stretch/>
        </p:blipFill>
        <p:spPr>
          <a:xfrm>
            <a:off x="2335320" y="3840120"/>
            <a:ext cx="2041560" cy="1285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Prema 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tehničko-inženjersko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j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definicij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i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rizika, rizik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povezan s KI-jem može se izraziti ka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sutnost opasnosti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sutnost ranjivosti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kritične infrastrukture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sutnost mogućnosti da ranjivost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ovede 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eželje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sljedi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Logička jednadžba rizik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Makne li se bilo koji od tri čimbenika, rizik će nest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Kvantitativna procjena rizik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postavljanj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vantitativnih mode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za procjenu pojedinih faktora jednadžbe rizik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asnos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njivos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ljed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meljna načela kvantitativne procjene rizika KI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zervirano mjesto broja slajda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B031-7278-47F2-B354-53209F585DC5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"/>
              <p:cNvSpPr txBox="1"/>
              <p:nvPr/>
            </p:nvSpPr>
            <p:spPr>
              <a:xfrm>
                <a:off x="2571840" y="392904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Postupak k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vantitativn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analize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 rizika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 za KI u cjelini - glavni zada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četn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skretizacij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particija, nodalizacija…) sustava KI-a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kazat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K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ao konačan broj dijelova (podsustava, elemenata,…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jena kritičnosti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pojedinih dijelova KI-a određenih diskretizacijom t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zlučivan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nekritičnih dijelov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kacij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 analiza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opasnih događaja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 preostalim dijelov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zgradnja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gičko-vjerojatnosnih modela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za procjenu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anjivosti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KI-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Određivanje i razvrstavanje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sljedic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po pojedinim scenariji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Određivanje vrijednosti </a:t>
            </a:r>
            <a:r>
              <a:rPr b="0" lang="vi-VN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arametar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koje zahtijevaju model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ntegracija modela i izračun rizika.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naliz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neodređenosti i osjetljivos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Analiza rezultata, utvrđivanje dijelova KI-a i scenarija koji najviše doprinose rizik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Definiranje strategije i zaštitnih mj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meljna načela kvantitativne procjene rizika KI-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D74-F116-4CB8-B4F3-57D03A0CD14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Normalna opasno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ogađaj odnosno nastanak posebnih uvjeta uzrokovan nepouzdanošću i / ili kvarovima elemenata samog K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(unutarnji događaji)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Izvanredna opasnos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anjski (u odnosu na sustav KI-a) poremećaji prirodnog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i/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ili slučajnog porijekla, poput teških vremenskih uvjeta, zemljotres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, industrijskih nesreć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 i sličnih događaj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Opasnosti od namjernog djelovanja 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(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uključujući činove terorizma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Vrste opasnosti kojima je izložen K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47FE-4355-4490-B4DF-3009E92467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4350960"/>
            <a:ext cx="8229600" cy="21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"Normalna" opasnost: inherentna sustav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Rizik: funkcija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uzdanosti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susta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Izvanredne opasnosti: izviru van sust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Mogu biti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dviđe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ili 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predviđen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projekt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Normalne i izvanredne opas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2"/>
          <p:cNvGraphicFramePr/>
          <p:nvPr/>
        </p:nvGraphicFramePr>
        <p:xfrm>
          <a:off x="285840" y="1285920"/>
          <a:ext cx="828684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285920"/>
                    <a:ext cx="828684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zervirano mjesto broja slajda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6194-7B16-4EAB-9A32-BBC2BCD7CC4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422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Za k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vantitativn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u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 procjen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u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 rizika cjelokupnog KI EES-a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 nužne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dvije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 </a:t>
            </a:r>
            <a:r>
              <a:rPr b="0" lang="vi-VN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etape</a:t>
            </a: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očetna analiza opasnosti i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osljedica 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u svrhu utvrđivanja najkritičnijih dijelova infrastrukture za koje je potrebna detaljna analiza 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detaljna analiza u svrhu konačne kvantitativne procjene riz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ostoji cijeli niz opće prihvaćenih </a:t>
            </a:r>
            <a:r>
              <a:rPr b="0" lang="hr-HR" sz="2000" spc="-1" strike="noStrike">
                <a:solidFill>
                  <a:srgbClr val="454e53"/>
                </a:solidFill>
                <a:latin typeface="Arial"/>
                <a:ea typeface="Arial"/>
              </a:rPr>
              <a:t>i </a:t>
            </a:r>
            <a:r>
              <a:rPr b="0" lang="hr-HR" sz="2000" spc="-1" strike="noStrike" u="sng">
                <a:solidFill>
                  <a:srgbClr val="454e53"/>
                </a:solidFill>
                <a:uFillTx/>
                <a:latin typeface="Arial"/>
                <a:ea typeface="Arial"/>
              </a:rPr>
              <a:t>detaljno razvijenih </a:t>
            </a:r>
            <a:r>
              <a:rPr b="0" lang="en-US" sz="2000" spc="-1" strike="noStrike">
                <a:solidFill>
                  <a:srgbClr val="454e53"/>
                </a:solidFill>
                <a:latin typeface="Arial"/>
                <a:ea typeface="Arial"/>
              </a:rPr>
              <a:t>meto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Prva etapa, primjerene npr. metode iz porodica HAZOP i FME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Druga etapa: sofisticiranije metode poput npr. stabla događaja, stabla kvara i vjerojatnosne analize riz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f81b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454e53"/>
                </a:solidFill>
                <a:latin typeface="Arial"/>
                <a:ea typeface="Arial"/>
              </a:rPr>
              <a:t>Procjena učestalosti vanjskih opas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Potreba za prikupljanjem odgovarajućih podataka za karakterizaciju izvanrednih opasnosti po regijama u državi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  <a:ea typeface="Arial"/>
              </a:rPr>
              <a:t>Npr.: seizmičke regije, požarne regije, poplavne regije, regije industrijskog hazarda i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1150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</a:rPr>
              <a:t>Normalne i izvanredne opas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zervirano mjesto broja slajd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F15C-B39B-4775-94D9-B51006AB9E4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Ivan Vrbanic</cp:lastModifiedBy>
  <dcterms:modified xsi:type="dcterms:W3CDTF">2008-10-28T19:20:09Z</dcterms:modified>
  <cp:revision>62</cp:revision>
  <dc:subject/>
  <dc:title>Slajd 1</dc:title>
</cp:coreProperties>
</file>