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png" ContentType="image/png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94f5a"/>
                </a:solidFill>
                <a:latin typeface="Tahoma"/>
              </a:rPr>
              <a:t>Click to move the slide</a:t>
            </a:r>
            <a:endParaRPr b="1" lang="en-US" sz="4000" spc="-1" strike="noStrike">
              <a:solidFill>
                <a:srgbClr val="494f5a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DBB3D-5A23-4DCF-8079-93542E34D20D}" type="slidenum"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773520" y="9339120"/>
            <a:ext cx="2887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A425B-39C6-46EA-97E0-CDA406AAA1F3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773520" y="9339120"/>
            <a:ext cx="2887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C3CBD-F6AB-4522-A971-A6343325F541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773520" y="9339120"/>
            <a:ext cx="2887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E0A61-24BC-423D-AEC6-D64073BCA3C8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773520" y="9339120"/>
            <a:ext cx="2887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7390B-4771-4259-8322-19FCAC77241F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773520" y="9339120"/>
            <a:ext cx="2887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8CD9F-7378-4104-A11B-F19CE8BFFDFF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773520" y="9339120"/>
            <a:ext cx="2887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1ED8F-B850-40E9-B2EF-53004054E872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773520" y="9339120"/>
            <a:ext cx="2887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3D7A8-96BC-4DEB-9A64-585799F3221C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773520" y="9339120"/>
            <a:ext cx="2887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431E3-6F08-4CB7-8058-F9AED0F3BE15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773520" y="9339120"/>
            <a:ext cx="2887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B30DB-0D81-43CE-A422-2BBDF8F80018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773520" y="9339120"/>
            <a:ext cx="2887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4E71D-2025-47EA-800F-7F0D4D426C30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773520" y="9339120"/>
            <a:ext cx="2887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927BE-C42B-4166-9B67-CC8CFF5211B4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773520" y="9339120"/>
            <a:ext cx="2887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CF922-0F79-4E2F-B047-1FBAD4D1F7B3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773520" y="9339120"/>
            <a:ext cx="2887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9274D-9F57-40B5-AA98-07162A216404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773520" y="9339120"/>
            <a:ext cx="2887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966D9-45B3-43B3-A353-E63DFD751EA0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773520" y="9339120"/>
            <a:ext cx="2887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0DFC7-E81B-4F7B-8B10-E7D6FBCE2260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773520" y="9339120"/>
            <a:ext cx="2887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2B551-0B51-47EF-89E6-4E5C71116FF8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773520" y="9339120"/>
            <a:ext cx="2887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57A6B-5345-4E89-A64D-72941119647F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773520" y="9339120"/>
            <a:ext cx="2887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0EF35-5C06-4E94-BBC7-CE289ACAD213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773520" y="9339120"/>
            <a:ext cx="2887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C77FF-555F-4E90-A08E-E03124896B7F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773520" y="9339120"/>
            <a:ext cx="2887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CBBFF-2C5D-445E-817B-F5892D262FF0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773520" y="9339120"/>
            <a:ext cx="2887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FA31E-9DBF-412C-8664-85010105ADFF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773520" y="9339120"/>
            <a:ext cx="2887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68E19-38B5-495B-9445-3BE4C6EA89CA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773520" y="9339120"/>
            <a:ext cx="2887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DAC99-3C4D-44EA-9BE6-5EC01CB718D3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773520" y="9339120"/>
            <a:ext cx="2887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30FEC-116B-41D2-AB57-CA26FF391ED0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773520" y="9339120"/>
            <a:ext cx="28875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0EDE1-67D8-46C2-882B-752C5E4DE366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4D33-A44A-45D4-AADF-CF28E8792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94f5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47040"/>
            <a:ext cx="822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85A8-1C87-4332-8A76-CFBF57710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94f5a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EAEC-4487-46C0-A5CD-9164E2525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94f5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4704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4704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4704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635B-DB96-4594-AF3C-4F71F905A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E5A3C-8C4B-43D6-89A2-77C8334BB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94f5a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4A46D-8B36-44DD-9A68-B7D5AA528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94f5a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3E77A-7C81-4C22-9463-A6EB72020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94f5a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A8335-FBA2-42C4-9A63-26BFCCB3E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94f5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C2B25-563C-46CA-8825-A2FC7FCA4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778A8-5F65-41E8-A6AC-13669FF89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94f5a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88192-35B9-4713-8782-7F94B752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94f5a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26AB-7F70-45CA-9EB8-BA6B6D102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94f5a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8D810-BF62-4BD8-9197-741A4F5F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94f5a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47040"/>
            <a:ext cx="822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ACAE5-B28D-4756-8D9D-0DF1F0B16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94f5a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47040"/>
            <a:ext cx="822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8A6EB-562C-4946-AC03-79B7471E3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94f5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DFDD0-2E4C-491A-B2AD-F7BFA4AEC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94f5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4704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4704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47040"/>
            <a:ext cx="264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C45E2-4B7C-40D3-AF75-01482EA6E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94f5a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C245-5079-4377-BCD6-412D79BF3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94f5a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F628-8066-4DD6-B955-8508AA340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94f5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510B-A071-49B2-AE99-20A21DDA5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8300-4063-4082-943C-156B41EB8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94f5a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D123-F0C6-4032-829A-BDEAF135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94f5a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4704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2965-2AAF-4491-ADDD-0B0D62D8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94f5a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47040"/>
            <a:ext cx="822960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E854-8CE6-47B5-915F-D2A29C942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e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94f5a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494f5a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f5a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94f5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f5a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494f5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f5a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494f5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f5a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494f5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f5a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f5a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f5a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093000"/>
            <a:ext cx="11509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381360"/>
            <a:ext cx="7873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619280" y="6093000"/>
            <a:ext cx="1224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8d918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E24B4-3481-41AD-AEBD-262FA9D8D04D}" type="slidenum">
              <a:rPr b="0" lang="hr-HR" sz="1400" spc="-1" strike="noStrike">
                <a:solidFill>
                  <a:srgbClr val="8d918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kvadra_logo_footer"/>
          <p:cNvPicPr/>
          <p:nvPr/>
        </p:nvPicPr>
        <p:blipFill>
          <a:blip r:embed="rId3"/>
          <a:stretch/>
        </p:blipFill>
        <p:spPr>
          <a:xfrm>
            <a:off x="7885080" y="6237360"/>
            <a:ext cx="828720" cy="34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e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kvadra_logo_footer"/>
          <p:cNvPicPr/>
          <p:nvPr/>
        </p:nvPicPr>
        <p:blipFill>
          <a:blip r:embed="rId2"/>
          <a:stretch/>
        </p:blipFill>
        <p:spPr>
          <a:xfrm>
            <a:off x="7885080" y="6237360"/>
            <a:ext cx="828720" cy="3477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94f5a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494f5a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f5a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94f5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f5a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494f5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f5a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494f5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f5a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494f5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f5a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f5a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f5a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392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77164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572400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8d918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5CF76-D42B-41DF-B60C-6139C0D1FE71}" type="slidenum">
              <a:rPr b="0" lang="hr-HR" sz="1400" spc="-1" strike="noStrike">
                <a:solidFill>
                  <a:srgbClr val="8d918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png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14240" y="2571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494f5a"/>
                </a:solidFill>
                <a:latin typeface="Tahoma"/>
              </a:rPr>
              <a:t>Korporativna i informacijska sigurnost</a:t>
            </a:r>
            <a:endParaRPr b="1" lang="en-US" sz="4000" spc="-1" strike="noStrike">
              <a:solidFill>
                <a:srgbClr val="494f5a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94f5a"/>
              </a:solidFill>
              <a:latin typeface="Tahoma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8d918f"/>
                </a:solidFill>
                <a:latin typeface="Tahoma"/>
              </a:rPr>
              <a:t>Dario Matika</a:t>
            </a:r>
            <a:endParaRPr b="0" lang="en-US" sz="3600" spc="-1" strike="noStrike">
              <a:solidFill>
                <a:srgbClr val="494f5a"/>
              </a:solidFill>
              <a:latin typeface="Tahoma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8d918f"/>
                </a:solidFill>
                <a:latin typeface="Tahoma"/>
              </a:rPr>
              <a:t>Dejan Košutić</a:t>
            </a:r>
            <a:endParaRPr b="0" lang="en-US" sz="3600" spc="-1" strike="noStrike">
              <a:solidFill>
                <a:srgbClr val="494f5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494f5a"/>
                </a:solidFill>
                <a:latin typeface="Tahoma"/>
              </a:rPr>
              <a:t>2. CILJ – dio procesa odlučivanja i uvođenja novih tehnologija</a:t>
            </a:r>
            <a:endParaRPr b="1" lang="en-US" sz="3600" spc="-1" strike="noStrike">
              <a:solidFill>
                <a:srgbClr val="494f5a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9280" y="1655280"/>
            <a:ext cx="814716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494f5a"/>
                </a:solidFill>
                <a:latin typeface="Tahoma"/>
              </a:rPr>
              <a:t>Provodi menadžment tvrtke</a:t>
            </a:r>
            <a:endParaRPr b="0" lang="en-US" sz="3600" spc="-1" strike="noStrike">
              <a:solidFill>
                <a:srgbClr val="494f5a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494f5a"/>
                </a:solidFill>
                <a:latin typeface="Tahoma"/>
              </a:rPr>
              <a:t>Uključuje </a:t>
            </a:r>
            <a:r>
              <a:rPr b="0" lang="hr-HR" sz="3600" spc="-1" strike="noStrike">
                <a:solidFill>
                  <a:srgbClr val="000000"/>
                </a:solidFill>
                <a:latin typeface="Tahoma"/>
              </a:rPr>
              <a:t>direktore tvrtke i operativne rukovoditelje</a:t>
            </a:r>
            <a:endParaRPr b="0" lang="en-US" sz="3600" spc="-1" strike="noStrike">
              <a:solidFill>
                <a:srgbClr val="494f5a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Tahoma"/>
              </a:rPr>
              <a:t>Svrha:</a:t>
            </a:r>
            <a:endParaRPr b="0" lang="en-US" sz="3600" spc="-1" strike="noStrike">
              <a:solidFill>
                <a:srgbClr val="494f5a"/>
              </a:solidFill>
              <a:latin typeface="Tahoma"/>
            </a:endParaRPr>
          </a:p>
          <a:p>
            <a:pPr lvl="1" marL="678240" indent="-340560">
              <a:lnSpc>
                <a:spcPct val="90000"/>
              </a:lnSpc>
              <a:spcBef>
                <a:spcPts val="901"/>
              </a:spcBef>
              <a:buClr>
                <a:srgbClr val="494f5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494f5a"/>
                </a:solidFill>
                <a:latin typeface="Tahoma"/>
              </a:rPr>
              <a:t>Predviđanje (</a:t>
            </a:r>
            <a:r>
              <a:rPr b="0" lang="hr-HR" sz="3600" spc="-1" strike="noStrike">
                <a:solidFill>
                  <a:srgbClr val="000000"/>
                </a:solidFill>
                <a:latin typeface="Tahoma"/>
              </a:rPr>
              <a:t>prosudba</a:t>
            </a:r>
            <a:r>
              <a:rPr b="0" lang="hr-HR" sz="3600" spc="-1" strike="noStrike">
                <a:solidFill>
                  <a:srgbClr val="494f5a"/>
                </a:solidFill>
                <a:latin typeface="Tahoma"/>
              </a:rPr>
              <a:t>) sigurnosnih rizika</a:t>
            </a:r>
            <a:endParaRPr b="0" lang="en-US" sz="3600" spc="-1" strike="noStrike">
              <a:solidFill>
                <a:srgbClr val="494f5a"/>
              </a:solidFill>
              <a:latin typeface="Tahoma"/>
            </a:endParaRPr>
          </a:p>
          <a:p>
            <a:pPr lvl="1" marL="678240" indent="-3405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Tahoma"/>
              </a:rPr>
              <a:t>Predlaganje</a:t>
            </a:r>
            <a:r>
              <a:rPr b="0" lang="hr-HR" sz="3600" spc="-1" strike="noStrike">
                <a:solidFill>
                  <a:srgbClr val="494f5a"/>
                </a:solidFill>
                <a:latin typeface="Tahoma"/>
              </a:rPr>
              <a:t> </a:t>
            </a:r>
            <a:r>
              <a:rPr b="1" i="1" lang="hr-HR" sz="3600" spc="-1" strike="noStrike">
                <a:solidFill>
                  <a:srgbClr val="494f5a"/>
                </a:solidFill>
                <a:latin typeface="Tahoma"/>
              </a:rPr>
              <a:t>sigurnosnih mjera</a:t>
            </a:r>
            <a:r>
              <a:rPr b="0" i="1" lang="hr-HR" sz="3600" spc="-1" strike="noStrike">
                <a:solidFill>
                  <a:srgbClr val="494f5a"/>
                </a:solidFill>
                <a:latin typeface="Tahoma"/>
              </a:rPr>
              <a:t> kojima bi se </a:t>
            </a:r>
            <a:r>
              <a:rPr b="1" i="1" lang="hr-HR" sz="3600" spc="-1" strike="noStrike">
                <a:solidFill>
                  <a:srgbClr val="494f5a"/>
                </a:solidFill>
                <a:latin typeface="Tahoma"/>
              </a:rPr>
              <a:t>rizici </a:t>
            </a:r>
            <a:r>
              <a:rPr b="0" i="1" lang="hr-HR" sz="3600" spc="-1" strike="noStrike">
                <a:solidFill>
                  <a:srgbClr val="494f5a"/>
                </a:solidFill>
                <a:latin typeface="Tahoma"/>
              </a:rPr>
              <a:t>smanjili</a:t>
            </a:r>
            <a:endParaRPr b="0" lang="en-US" sz="3600" spc="-1" strike="noStrike">
              <a:solidFill>
                <a:srgbClr val="494f5a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94f5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494f5a"/>
                </a:solidFill>
                <a:latin typeface="Tahoma"/>
              </a:rPr>
              <a:t>OPIS POSLOVA</a:t>
            </a:r>
            <a:endParaRPr b="1" lang="en-US" sz="4000" spc="-1" strike="noStrike">
              <a:solidFill>
                <a:srgbClr val="494f5a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68000" y="1295280"/>
            <a:ext cx="8218440" cy="515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ahoma"/>
              </a:rPr>
              <a:t>Prikupljanje</a:t>
            </a:r>
            <a:r>
              <a:rPr b="1" lang="hr-HR" sz="2800" spc="-1" strike="noStrike">
                <a:solidFill>
                  <a:srgbClr val="494f5a"/>
                </a:solidFill>
                <a:latin typeface="Tahoma"/>
              </a:rPr>
              <a:t> </a:t>
            </a:r>
            <a:r>
              <a:rPr b="0" lang="hr-HR" sz="2800" spc="-1" strike="noStrike">
                <a:solidFill>
                  <a:srgbClr val="494f5a"/>
                </a:solidFill>
                <a:latin typeface="Tahoma"/>
              </a:rPr>
              <a:t>informacija i procjena rizika</a:t>
            </a: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494f5a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494f5a"/>
                </a:solidFill>
                <a:latin typeface="Tahoma"/>
              </a:rPr>
              <a:t>Održavanje </a:t>
            </a:r>
            <a:r>
              <a:rPr b="0" lang="hr-HR" sz="2800" spc="-1" strike="noStrike">
                <a:solidFill>
                  <a:srgbClr val="494f5a"/>
                </a:solidFill>
                <a:latin typeface="Tahoma"/>
              </a:rPr>
              <a:t>tvrtke </a:t>
            </a: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spremnom za kritične situacije</a:t>
            </a: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ahoma"/>
              </a:rPr>
              <a:t>Prevencija</a:t>
            </a:r>
            <a:r>
              <a:rPr b="0" lang="hr-HR" sz="2800" spc="-1" strike="noStrike">
                <a:solidFill>
                  <a:srgbClr val="494f5a"/>
                </a:solidFill>
                <a:latin typeface="Tahoma"/>
              </a:rPr>
              <a:t> incidentnih situacija</a:t>
            </a: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ahoma"/>
              </a:rPr>
              <a:t>Štićenje</a:t>
            </a: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r-HR" sz="2800" spc="-1" strike="noStrike">
                <a:solidFill>
                  <a:srgbClr val="494f5a"/>
                </a:solidFill>
                <a:latin typeface="Tahoma"/>
              </a:rPr>
              <a:t>kritične infrastrukture i vitalnih interesa tvrtke</a:t>
            </a: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ahoma"/>
              </a:rPr>
              <a:t>Rapidno </a:t>
            </a:r>
            <a:r>
              <a:rPr b="1" lang="hr-HR" sz="2800" spc="-1" strike="noStrike">
                <a:solidFill>
                  <a:srgbClr val="494f5a"/>
                </a:solidFill>
                <a:latin typeface="Tahoma"/>
              </a:rPr>
              <a:t>reagiranje</a:t>
            </a:r>
            <a:r>
              <a:rPr b="0" lang="hr-HR" sz="2800" spc="-1" strike="noStrike">
                <a:solidFill>
                  <a:srgbClr val="494f5a"/>
                </a:solidFill>
                <a:latin typeface="Tahoma"/>
              </a:rPr>
              <a:t>, upravljanje incidentnom situacijom i koordiniranje sa državnim institucijama </a:t>
            </a: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494f5a"/>
                </a:solidFill>
                <a:latin typeface="Tahoma"/>
              </a:rPr>
              <a:t>Integrirani model sigurnosti poslovnih informacija</a:t>
            </a:r>
            <a:endParaRPr b="1" lang="en-US" sz="4000" spc="-1" strike="noStrike">
              <a:solidFill>
                <a:srgbClr val="494f5a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94f5a"/>
                </a:solidFill>
                <a:latin typeface="Tahoma"/>
              </a:rPr>
              <a:t>podrazumijeva integraciju četiri dimenzije: </a:t>
            </a: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494f5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494f5a"/>
                </a:solidFill>
                <a:latin typeface="Tahoma"/>
              </a:rPr>
              <a:t>tehničke, poslovne, fizičke i osobne</a:t>
            </a:r>
            <a:r>
              <a:rPr b="0" lang="hr-HR" sz="2800" spc="-1" strike="noStrike">
                <a:solidFill>
                  <a:srgbClr val="494f5a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94f5a"/>
                </a:solidFill>
                <a:latin typeface="Tahoma"/>
              </a:rPr>
              <a:t>polazi od slijedećih opasnosti:</a:t>
            </a: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494f5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94f5a"/>
                </a:solidFill>
                <a:latin typeface="Tahoma"/>
              </a:rPr>
              <a:t>Nedovoljne svijesti o postojanju ugroženosti poslovnih subjekata</a:t>
            </a: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494f5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94f5a"/>
                </a:solidFill>
                <a:latin typeface="Tahoma"/>
              </a:rPr>
              <a:t>Nedovoljne potrebe za uspostavljanje odgovarajućih sigurnosnih mehanizama, te</a:t>
            </a: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494f5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94f5a"/>
                </a:solidFill>
                <a:latin typeface="Tahoma"/>
              </a:rPr>
              <a:t>Nedovoljnog fokusiranja na </a:t>
            </a:r>
            <a:r>
              <a:rPr b="1" lang="hr-HR" sz="2800" spc="-1" strike="noStrike" u="sng">
                <a:solidFill>
                  <a:srgbClr val="494f5a"/>
                </a:solidFill>
                <a:uFillTx/>
                <a:latin typeface="Tahoma"/>
              </a:rPr>
              <a:t>mehanizme informacijske sigurnosti.</a:t>
            </a: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494f5a"/>
                </a:solidFill>
                <a:latin typeface="Tahoma"/>
              </a:rPr>
              <a:t>Problemi kod implementacije korporativne sigurnosti</a:t>
            </a:r>
            <a:endParaRPr b="1" lang="en-US" sz="4000" spc="-1" strike="noStrike">
              <a:solidFill>
                <a:srgbClr val="494f5a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494f5a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94f5a"/>
                </a:solidFill>
                <a:latin typeface="Tahoma"/>
              </a:rPr>
              <a:t>Sigurnost je vrlo kompleksna, uključuje različite dimenzije sigurnosti</a:t>
            </a: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494f5a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94f5a"/>
                </a:solidFill>
                <a:latin typeface="Tahoma"/>
              </a:rPr>
              <a:t>Tehnološke mogućnosti se prebrzo razvijaju za kapacitet organizacije i djelatnika</a:t>
            </a: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494f5a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94f5a"/>
                </a:solidFill>
                <a:latin typeface="Tahoma"/>
              </a:rPr>
              <a:t>Sigurnost se smatra troškom, a ne investicijom</a:t>
            </a: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494f5a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494f5a"/>
                </a:solidFill>
                <a:latin typeface="Tahoma"/>
              </a:rPr>
              <a:t>Informacijska sigurnost kao poveznica sigurnosti i poslovanja</a:t>
            </a:r>
            <a:endParaRPr b="1" lang="en-US" sz="3600" spc="-1" strike="noStrike">
              <a:solidFill>
                <a:srgbClr val="494f5a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62960" indent="-462960">
              <a:spcBef>
                <a:spcPts val="700"/>
              </a:spcBef>
              <a:buClr>
                <a:srgbClr val="494f5a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94f5a"/>
                </a:solidFill>
                <a:latin typeface="Tahoma"/>
              </a:rPr>
              <a:t>može povezati različite vrste sigurnosti uporabom procjene rizika i sveobuhvatnom dokumentacijom</a:t>
            </a: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  <a:p>
            <a:pPr marL="462960" indent="-462960">
              <a:spcBef>
                <a:spcPts val="700"/>
              </a:spcBef>
              <a:buClr>
                <a:srgbClr val="494f5a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94f5a"/>
                </a:solidFill>
                <a:latin typeface="Tahoma"/>
              </a:rPr>
              <a:t>kroz procjenu rizika se može ustanoviti o kojim karakteristikama tehnologije se ne vodi računa, a kroz obučavanje i osvješćivanje se povećava kapacitet ljudskih resursa</a:t>
            </a: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  <a:p>
            <a:pPr marL="462960" indent="-462960">
              <a:spcBef>
                <a:spcPts val="700"/>
              </a:spcBef>
              <a:buClr>
                <a:srgbClr val="494f5a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94f5a"/>
                </a:solidFill>
                <a:latin typeface="Tahoma"/>
              </a:rPr>
              <a:t>tijekom procjene rizika se može kvantificirati potencijalna šteta, pa se na taj način može izračunati isplativost investicije u sigurnosne mjere </a:t>
            </a: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  <a:p>
            <a:pPr marL="462960" indent="-462960">
              <a:spcBef>
                <a:spcPts val="700"/>
              </a:spcBef>
              <a:buClr>
                <a:srgbClr val="494f5a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494f5a"/>
                </a:solidFill>
                <a:latin typeface="Tahoma"/>
              </a:rPr>
              <a:t>Zaključak</a:t>
            </a:r>
            <a:endParaRPr b="1" lang="en-US" sz="4000" spc="-1" strike="noStrike">
              <a:solidFill>
                <a:srgbClr val="494f5a"/>
              </a:solidFill>
              <a:latin typeface="Tahom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94f5a"/>
                </a:solidFill>
                <a:latin typeface="Tahoma"/>
              </a:rPr>
              <a:t>informacijska sigurnost je izvrstan temelj za uklapanje različitih vrsta sigurnosti u poslovanje, te pruža okvir za izračun isplativosti</a:t>
            </a: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94f5a"/>
                </a:solidFill>
                <a:latin typeface="Tahoma"/>
              </a:rPr>
              <a:t>moderne organizacije upravljanje rizicima dižu na najvišu organizacijsku razinu (npr. banke), i to postaje normalna poslovna funkcija</a:t>
            </a: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94f5a"/>
                </a:solidFill>
                <a:latin typeface="Tahoma"/>
              </a:rPr>
              <a:t>kvalitetnim mjerenjem rizika najviši menadžment dobiva podlogu za donošenje strateških odluka o rizičnom profilu poslovanja</a:t>
            </a: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14240" y="2500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494f5a"/>
                </a:solidFill>
                <a:latin typeface="Tahoma"/>
              </a:rPr>
              <a:t>Primjena normi informacijske sigurnosti na primjeru HEP-a</a:t>
            </a:r>
            <a:endParaRPr b="1" lang="en-US" sz="4000" spc="-1" strike="noStrike">
              <a:solidFill>
                <a:srgbClr val="494f5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57200" y="4071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8d918f"/>
                </a:solidFill>
                <a:latin typeface="Tahoma"/>
              </a:rPr>
              <a:t>Dejan Košutić</a:t>
            </a:r>
            <a:endParaRPr b="0" lang="en-US" sz="3600" spc="-1" strike="noStrike">
              <a:solidFill>
                <a:srgbClr val="494f5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494f5a"/>
                </a:solidFill>
                <a:latin typeface="Tahoma"/>
              </a:rPr>
              <a:t>2 ključna područja za provedbu</a:t>
            </a:r>
            <a:endParaRPr b="1" lang="en-US" sz="4000" spc="-1" strike="noStrike">
              <a:solidFill>
                <a:srgbClr val="494f5a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94f5a"/>
                </a:solidFill>
                <a:latin typeface="Tahoma"/>
              </a:rPr>
              <a:t>upravljanje informacijskim rizicima</a:t>
            </a: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94f5a"/>
                </a:solidFill>
                <a:latin typeface="Tahoma"/>
              </a:rPr>
              <a:t>osvješćivanje i stjecanje znanja osoblja</a:t>
            </a: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494f5a"/>
                </a:solidFill>
                <a:latin typeface="Tahoma"/>
              </a:rPr>
              <a:t>Upravljanje informacijskim rizicima</a:t>
            </a:r>
            <a:endParaRPr b="1" lang="en-US" sz="4000" spc="-1" strike="noStrike">
              <a:solidFill>
                <a:srgbClr val="494f5a"/>
              </a:solidFill>
              <a:latin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94f5a"/>
                </a:solidFill>
                <a:latin typeface="Tahoma"/>
              </a:rPr>
              <a:t>Norme koje se koriste:</a:t>
            </a: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94f5a"/>
                </a:solidFill>
                <a:latin typeface="Tahoma"/>
              </a:rPr>
              <a:t>ISO/IEC 27001</a:t>
            </a: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94f5a"/>
                </a:solidFill>
                <a:latin typeface="Tahoma"/>
              </a:rPr>
              <a:t>ISO/IEC 27002 (bivša ISO/IEC 17799)</a:t>
            </a: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94f5a"/>
                </a:solidFill>
                <a:latin typeface="Tahoma"/>
              </a:rPr>
              <a:t>BS 7799-3</a:t>
            </a: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494f5a"/>
                </a:solidFill>
                <a:latin typeface="Tahoma"/>
              </a:rPr>
              <a:t>Procjena i obrada rizika</a:t>
            </a:r>
            <a:endParaRPr b="1" lang="en-US" sz="4000" spc="-1" strike="noStrike">
              <a:solidFill>
                <a:srgbClr val="494f5a"/>
              </a:solidFill>
              <a:latin typeface="Tahoma"/>
            </a:endParaRPr>
          </a:p>
        </p:txBody>
      </p:sp>
      <p:pic>
        <p:nvPicPr>
          <p:cNvPr id="136" name="Content Placeholder 3" descr="Ciklicna shema upravljanja rizicima.jpg"/>
          <p:cNvPicPr/>
          <p:nvPr/>
        </p:nvPicPr>
        <p:blipFill>
          <a:blip r:embed="rId1"/>
          <a:stretch/>
        </p:blipFill>
        <p:spPr>
          <a:xfrm>
            <a:off x="1357200" y="1357200"/>
            <a:ext cx="6375600" cy="50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494f5a"/>
                </a:solidFill>
                <a:latin typeface="Tahoma"/>
              </a:rPr>
              <a:t>Suvremeni poslovni procesi</a:t>
            </a:r>
            <a:endParaRPr b="1" lang="en-US" sz="4000" spc="-1" strike="noStrike">
              <a:solidFill>
                <a:srgbClr val="494f5a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94f5a"/>
                </a:solidFill>
                <a:latin typeface="Tahoma"/>
              </a:rPr>
              <a:t>Značajka:</a:t>
            </a: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94f5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494f5a"/>
                </a:solidFill>
                <a:latin typeface="Tahoma"/>
              </a:rPr>
              <a:t>integracija</a:t>
            </a:r>
            <a:r>
              <a:rPr b="0" lang="hr-HR" sz="2800" spc="-1" strike="noStrike">
                <a:solidFill>
                  <a:srgbClr val="494f5a"/>
                </a:solidFill>
                <a:latin typeface="Tahoma"/>
              </a:rPr>
              <a:t> u kojoj je sigurnost postala organska sastavnica poslovanja (</a:t>
            </a:r>
            <a:r>
              <a:rPr b="0" i="1" lang="en-US" sz="2800" spc="-1" strike="noStrike">
                <a:solidFill>
                  <a:srgbClr val="494f5a"/>
                </a:solidFill>
                <a:latin typeface="Tahoma"/>
              </a:rPr>
              <a:t>Business and Security</a:t>
            </a:r>
            <a:r>
              <a:rPr b="0" i="1" lang="hr-HR" sz="2800" spc="-1" strike="noStrike">
                <a:solidFill>
                  <a:srgbClr val="494f5a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 u="sng">
                <a:solidFill>
                  <a:srgbClr val="494f5a"/>
                </a:solidFill>
                <a:uFillTx/>
                <a:latin typeface="Tahoma"/>
              </a:rPr>
              <a:t>2004. godine NATO</a:t>
            </a:r>
            <a:r>
              <a:rPr b="0" lang="hr-HR" sz="2800" spc="-1" strike="noStrike">
                <a:solidFill>
                  <a:srgbClr val="494f5a"/>
                </a:solidFill>
                <a:latin typeface="Tahoma"/>
              </a:rPr>
              <a:t>: projekt </a:t>
            </a:r>
            <a:r>
              <a:rPr b="0" i="1" lang="en-US" sz="2800" spc="-1" strike="noStrike">
                <a:solidFill>
                  <a:srgbClr val="494f5a"/>
                </a:solidFill>
                <a:latin typeface="Tahoma"/>
              </a:rPr>
              <a:t>Business and Security</a:t>
            </a:r>
            <a:r>
              <a:rPr b="0" lang="en-US" sz="2800" spc="-1" strike="noStrike">
                <a:solidFill>
                  <a:srgbClr val="494f5a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494f5a"/>
                </a:solidFill>
                <a:latin typeface="Tahoma"/>
              </a:rPr>
              <a:t>glavni cilj:</a:t>
            </a: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94f5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94f5a"/>
                </a:solidFill>
                <a:latin typeface="Tahoma"/>
              </a:rPr>
              <a:t>istraživanja trenutnih prijetnji sigurnosti globalne ekonomije i civilne zajednice,  </a:t>
            </a: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94f5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94f5a"/>
                </a:solidFill>
                <a:latin typeface="Tahoma"/>
              </a:rPr>
              <a:t>NATO-va uloga u planiranju zaštite i odgovora na te prijetnje.  </a:t>
            </a: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494f5a"/>
                </a:solidFill>
                <a:latin typeface="Tahoma"/>
              </a:rPr>
              <a:t>Osvješćivanje i stjecanje znanja</a:t>
            </a:r>
            <a:endParaRPr b="1" lang="en-US" sz="4000" spc="-1" strike="noStrike">
              <a:solidFill>
                <a:srgbClr val="494f5a"/>
              </a:solidFill>
              <a:latin typeface="Tahom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94f5a"/>
                </a:solidFill>
                <a:latin typeface="Tahoma"/>
              </a:rPr>
              <a:t>Potrebno je odrediti slijedeće:</a:t>
            </a: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94f5a"/>
                </a:solidFill>
                <a:latin typeface="Tahoma"/>
              </a:rPr>
              <a:t>ciljane grupe</a:t>
            </a: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94f5a"/>
                </a:solidFill>
                <a:latin typeface="Tahoma"/>
              </a:rPr>
              <a:t>teme</a:t>
            </a: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94f5a"/>
                </a:solidFill>
                <a:latin typeface="Tahoma"/>
              </a:rPr>
              <a:t>metode</a:t>
            </a: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94f5a"/>
                </a:solidFill>
                <a:latin typeface="Tahoma"/>
              </a:rPr>
              <a:t>dinamiku</a:t>
            </a: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494f5a"/>
                </a:solidFill>
                <a:latin typeface="Tahoma"/>
              </a:rPr>
              <a:t>Ciljane grupe</a:t>
            </a:r>
            <a:endParaRPr b="1" lang="en-US" sz="4000" spc="-1" strike="noStrike">
              <a:solidFill>
                <a:srgbClr val="494f5a"/>
              </a:solidFill>
              <a:latin typeface="Tahom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94f5a"/>
                </a:solidFill>
                <a:latin typeface="Tahoma"/>
              </a:rPr>
              <a:t>svi zaposleni</a:t>
            </a: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94f5a"/>
                </a:solidFill>
                <a:latin typeface="Tahoma"/>
              </a:rPr>
              <a:t>stručno osoblje</a:t>
            </a: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94f5a"/>
                </a:solidFill>
                <a:latin typeface="Tahoma"/>
              </a:rPr>
              <a:t>menadžment</a:t>
            </a: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94f5a"/>
                </a:solidFill>
                <a:latin typeface="Tahoma"/>
              </a:rPr>
              <a:t>vanjsko osoblje</a:t>
            </a: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494f5a"/>
                </a:solidFill>
                <a:latin typeface="Tahoma"/>
              </a:rPr>
              <a:t>Teme</a:t>
            </a:r>
            <a:endParaRPr b="1" lang="en-US" sz="4000" spc="-1" strike="noStrike">
              <a:solidFill>
                <a:srgbClr val="494f5a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403848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94f5a"/>
                </a:solidFill>
                <a:latin typeface="Tahoma"/>
              </a:rPr>
              <a:t>zakonski propisi</a:t>
            </a: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94f5a"/>
                </a:solidFill>
                <a:latin typeface="Tahoma"/>
              </a:rPr>
              <a:t>najčešće prijetnje</a:t>
            </a: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94f5a"/>
                </a:solidFill>
                <a:latin typeface="Tahoma"/>
              </a:rPr>
              <a:t>socijalni inžinjering</a:t>
            </a: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94f5a"/>
                </a:solidFill>
                <a:latin typeface="Tahoma"/>
              </a:rPr>
              <a:t>zaštita od virusa</a:t>
            </a: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94f5a"/>
                </a:solidFill>
                <a:latin typeface="Tahoma"/>
              </a:rPr>
              <a:t>dozvoljena uporaba Interneta i e-maila</a:t>
            </a: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94f5a"/>
                </a:solidFill>
                <a:latin typeface="Tahoma"/>
              </a:rPr>
              <a:t>sigurnost prijenosnih računala</a:t>
            </a: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94f5a"/>
                </a:solidFill>
                <a:latin typeface="Tahoma"/>
              </a:rPr>
              <a:t>korištenje licenci</a:t>
            </a: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648320" y="1600200"/>
            <a:ext cx="403848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94f5a"/>
                </a:solidFill>
                <a:latin typeface="Tahoma"/>
              </a:rPr>
              <a:t>upravljanje rizikom</a:t>
            </a: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94f5a"/>
                </a:solidFill>
                <a:latin typeface="Tahoma"/>
              </a:rPr>
              <a:t>unutarnja revizija</a:t>
            </a: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0280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94f5a"/>
                </a:solidFill>
                <a:latin typeface="Tahoma"/>
              </a:rPr>
              <a:t>tehnički aspekt ICT sigurnosnih mjera</a:t>
            </a: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02805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94f5a"/>
                </a:solidFill>
                <a:latin typeface="Tahoma"/>
              </a:rPr>
              <a:t>najbolje prakse</a:t>
            </a: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02805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94f5a"/>
                </a:solidFill>
                <a:latin typeface="Tahoma"/>
              </a:rPr>
              <a:t>međunarodne norme</a:t>
            </a: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02805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94f5a"/>
                </a:solidFill>
                <a:latin typeface="Tahoma"/>
              </a:rPr>
              <a:t>planiranje i provedba</a:t>
            </a: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02805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94f5a"/>
                </a:solidFill>
                <a:latin typeface="Tahoma"/>
              </a:rPr>
              <a:t>održavanje dokumentacije</a:t>
            </a: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494f5a"/>
                </a:solidFill>
                <a:latin typeface="Tahoma"/>
              </a:rPr>
              <a:t>Metode i dinamika - osvješćivanje</a:t>
            </a:r>
            <a:endParaRPr b="1" lang="en-US" sz="4000" spc="-1" strike="noStrike">
              <a:solidFill>
                <a:srgbClr val="494f5a"/>
              </a:solidFill>
              <a:latin typeface="Tahom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57200" y="1600200"/>
          <a:ext cx="8229600" cy="442440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tode osvješćivanja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vi zaposle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ručno osobl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nadž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njsko osobl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-learn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vakih šest mjesec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vaka tri mjese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vakih šest mjesec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likom sklapanja ugovo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ativni d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ednom godišn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ednom godišn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ednom godišn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lanci u internom časopisu/na intrane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ednom mjeseč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ednom mjeseč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ednom mjeseč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reensaver-i i poruke upozoren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l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l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l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teri i poruke na reklamnom materijal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vakih šest mjesec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vakih šest mjesec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vakih šest mjesec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ne e-mail poruk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ednom mjeseč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ednom mjeseč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ednom mjeseč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ednom mjeseč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deo snimk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vakih šest mjesec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vakih šest mjesec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vakih godinu d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likom sklapanja ugovo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davan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ednom godišn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ednom godišn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ednom godišn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ednom godišn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gra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ednom godišn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494f5a"/>
                </a:solidFill>
                <a:latin typeface="Tahoma"/>
              </a:rPr>
              <a:t>Metode i dinamika – stjecanje znanja</a:t>
            </a:r>
            <a:endParaRPr b="1" lang="en-US" sz="4000" spc="-1" strike="noStrike">
              <a:solidFill>
                <a:srgbClr val="494f5a"/>
              </a:solidFill>
              <a:latin typeface="Tahoma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457200" y="1600200"/>
          <a:ext cx="8229600" cy="303228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tode stjecanja znanja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vi zaposle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ručno osobl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nadž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njsko osobl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-learn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vakih šest mjesec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vaka tri mjese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vakih šest mjesec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ručni časopisi/ Web portal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l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l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ručne obuke i certifikaci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vake dvije godine jedan certifikat po djelatnik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26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učavanje novih djelatni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likom zapošljavan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likom zapošljavan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likom zapošljavan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likom sklapanja ugovo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dovne obuk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ednom godišn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ednom godišn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ednom godišn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vanredne obuk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kon inciden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kon inciden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kon inciden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kon inciden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494f5a"/>
                </a:solidFill>
                <a:latin typeface="Tahoma"/>
              </a:rPr>
              <a:t>Zaključak</a:t>
            </a:r>
            <a:endParaRPr b="1" lang="en-US" sz="4000" spc="-1" strike="noStrike">
              <a:solidFill>
                <a:srgbClr val="494f5a"/>
              </a:solidFill>
              <a:latin typeface="Tahom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94f5a"/>
                </a:solidFill>
                <a:latin typeface="Tahoma"/>
              </a:rPr>
              <a:t>Pristupajući na sustavan i stručan način za ova dva aspekta:</a:t>
            </a: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94f5a"/>
                </a:solidFill>
                <a:latin typeface="Tahoma"/>
              </a:rPr>
              <a:t>bitno se pospješuje zaštita informacija</a:t>
            </a: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94f5a"/>
                </a:solidFill>
                <a:latin typeface="Tahoma"/>
              </a:rPr>
              <a:t>umanjuje se ukupna cijena projekta</a:t>
            </a: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94f5a"/>
                </a:solidFill>
                <a:latin typeface="Tahoma"/>
              </a:rPr>
              <a:t>usklađuje se sa regulativom</a:t>
            </a: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94f5a"/>
                </a:solidFill>
                <a:latin typeface="Tahoma"/>
              </a:rPr>
              <a:t>bitno se povećava vjerojatnost za uspješan završetak projekta</a:t>
            </a: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494f5a"/>
                </a:solidFill>
                <a:latin typeface="Tahoma"/>
              </a:rPr>
              <a:t>Istraživačke teme</a:t>
            </a:r>
            <a:endParaRPr b="1" lang="en-US" sz="4000" spc="-1" strike="noStrike">
              <a:solidFill>
                <a:srgbClr val="494f5a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94f5a"/>
                </a:solidFill>
                <a:latin typeface="Tahoma"/>
              </a:rPr>
              <a:t>prihvatljivost rizika poslovanja i odgovori na prijetnje, </a:t>
            </a: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94f5a"/>
                </a:solidFill>
                <a:latin typeface="Tahoma"/>
              </a:rPr>
              <a:t>financijska i ekonomska sigurnost, </a:t>
            </a: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94f5a"/>
                </a:solidFill>
                <a:latin typeface="Tahoma"/>
              </a:rPr>
              <a:t>znanje, informacija i obavještajni podaci,</a:t>
            </a: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94f5a"/>
                </a:solidFill>
                <a:latin typeface="Tahoma"/>
              </a:rPr>
              <a:t>upravljanje informacijama i informacijska sigurnost.</a:t>
            </a: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94f5a"/>
                </a:solidFill>
                <a:latin typeface="Tahoma"/>
              </a:rPr>
              <a:t>zaštita informacija, komunikacija i podataka promatrana je kao </a:t>
            </a:r>
            <a:r>
              <a:rPr b="0" i="1" lang="hr-HR" sz="2800" spc="-1" strike="noStrike" u="sng">
                <a:solidFill>
                  <a:srgbClr val="494f5a"/>
                </a:solidFill>
                <a:uFillTx/>
                <a:latin typeface="Tahoma"/>
              </a:rPr>
              <a:t>zaštita samog srca</a:t>
            </a:r>
            <a:r>
              <a:rPr b="0" i="1" lang="hr-HR" sz="2800" spc="-1" strike="noStrike">
                <a:solidFill>
                  <a:srgbClr val="494f5a"/>
                </a:solidFill>
                <a:latin typeface="Tahoma"/>
              </a:rPr>
              <a:t> </a:t>
            </a:r>
            <a:r>
              <a:rPr b="0" lang="hr-HR" sz="2800" spc="-1" strike="noStrike">
                <a:solidFill>
                  <a:srgbClr val="494f5a"/>
                </a:solidFill>
                <a:latin typeface="Tahoma"/>
              </a:rPr>
              <a:t>moderne globalne ekonomije  </a:t>
            </a: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494f5a"/>
                </a:solidFill>
                <a:latin typeface="Tahoma"/>
              </a:rPr>
              <a:t>Integracija</a:t>
            </a:r>
            <a:endParaRPr b="1" lang="en-US" sz="4000" spc="-1" strike="noStrike">
              <a:solidFill>
                <a:srgbClr val="494f5a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94f5a"/>
                </a:solidFill>
                <a:latin typeface="Tahoma"/>
              </a:rPr>
              <a:t>opći pojam bila bi </a:t>
            </a:r>
            <a:r>
              <a:rPr b="1" i="1" lang="it-IT" sz="2800" spc="-1" strike="noStrike">
                <a:solidFill>
                  <a:srgbClr val="333399"/>
                </a:solidFill>
                <a:latin typeface="Tahoma"/>
              </a:rPr>
              <a:t>tehnička sigurnost</a:t>
            </a: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94f5a"/>
                </a:solidFill>
                <a:latin typeface="Tahoma"/>
              </a:rPr>
              <a:t>podrazumijeva integraciju</a:t>
            </a:r>
            <a:r>
              <a:rPr b="0" lang="hr-HR" sz="2800" spc="-1" strike="noStrike">
                <a:solidFill>
                  <a:srgbClr val="494f5a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94f5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494f5a"/>
                </a:solidFill>
                <a:latin typeface="Tahoma"/>
              </a:rPr>
              <a:t>opće sigurnosti</a:t>
            </a:r>
            <a:r>
              <a:rPr b="0" lang="it-IT" sz="2800" spc="-1" strike="noStrike">
                <a:solidFill>
                  <a:srgbClr val="494f5a"/>
                </a:solidFill>
                <a:latin typeface="Tahoma"/>
              </a:rPr>
              <a:t> (požar, poplava, elementarne nepogode i sl.), </a:t>
            </a: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94f5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494f5a"/>
                </a:solidFill>
                <a:latin typeface="Tahoma"/>
              </a:rPr>
              <a:t>posebne sigurnosti</a:t>
            </a:r>
            <a:r>
              <a:rPr b="0" lang="it-IT" sz="2800" spc="-1" strike="noStrike">
                <a:solidFill>
                  <a:srgbClr val="494f5a"/>
                </a:solidFill>
                <a:latin typeface="Tahoma"/>
              </a:rPr>
              <a:t> (protupravne radnje – provale, sabotaže, prepadi i sl.) u i </a:t>
            </a: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94f5a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94f5a"/>
                </a:solidFill>
                <a:latin typeface="Tahoma"/>
              </a:rPr>
              <a:t>tzv. </a:t>
            </a:r>
            <a:r>
              <a:rPr b="0" i="1" lang="it-IT" sz="2800" spc="-1" strike="noStrike">
                <a:solidFill>
                  <a:srgbClr val="494f5a"/>
                </a:solidFill>
                <a:latin typeface="Tahoma"/>
              </a:rPr>
              <a:t>homeland </a:t>
            </a:r>
            <a:r>
              <a:rPr b="0" lang="it-IT" sz="2800" spc="-1" strike="noStrike">
                <a:solidFill>
                  <a:srgbClr val="494f5a"/>
                </a:solidFill>
                <a:latin typeface="Tahoma"/>
              </a:rPr>
              <a:t>sigurnosti u jedan zajednički sustav tehničke zaštite za štićenje osoba i njihove imovine. </a:t>
            </a: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494f5a"/>
                </a:solidFill>
                <a:latin typeface="Tahoma"/>
              </a:rPr>
              <a:t>Safety and Security </a:t>
            </a:r>
            <a:endParaRPr b="1" lang="en-US" sz="4000" spc="-1" strike="noStrike">
              <a:solidFill>
                <a:srgbClr val="494f5a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403848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</p:txBody>
      </p:sp>
      <p:pic>
        <p:nvPicPr>
          <p:cNvPr id="101" name="Picture 9" descr=""/>
          <p:cNvPicPr/>
          <p:nvPr/>
        </p:nvPicPr>
        <p:blipFill>
          <a:blip r:embed="rId2"/>
          <a:stretch/>
        </p:blipFill>
        <p:spPr>
          <a:xfrm>
            <a:off x="4932360" y="1557360"/>
            <a:ext cx="3672000" cy="439272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7"/>
          <p:cNvGraphicFramePr/>
          <p:nvPr/>
        </p:nvGraphicFramePr>
        <p:xfrm>
          <a:off x="539640" y="1628640"/>
          <a:ext cx="4032360" cy="439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1628640"/>
                    <a:ext cx="4032360" cy="43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494f5a"/>
                </a:solidFill>
                <a:latin typeface="Tahoma"/>
              </a:rPr>
              <a:t>Opasne tvari</a:t>
            </a:r>
            <a:endParaRPr b="1" lang="en-US" sz="4000" spc="-1" strike="noStrike">
              <a:solidFill>
                <a:srgbClr val="494f5a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403848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</p:txBody>
      </p:sp>
      <p:pic>
        <p:nvPicPr>
          <p:cNvPr id="107" name="Picture 9" descr=""/>
          <p:cNvPicPr/>
          <p:nvPr/>
        </p:nvPicPr>
        <p:blipFill>
          <a:blip r:embed="rId2"/>
          <a:stretch/>
        </p:blipFill>
        <p:spPr>
          <a:xfrm>
            <a:off x="4572000" y="1628640"/>
            <a:ext cx="4038480" cy="295272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Object 7"/>
          <p:cNvGraphicFramePr/>
          <p:nvPr/>
        </p:nvGraphicFramePr>
        <p:xfrm>
          <a:off x="468360" y="1557360"/>
          <a:ext cx="4032360" cy="403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1557360"/>
                    <a:ext cx="4032360" cy="40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1" name="Picture 10" descr=""/>
          <p:cNvPicPr/>
          <p:nvPr/>
        </p:nvPicPr>
        <p:blipFill>
          <a:blip r:embed="rId5"/>
          <a:stretch/>
        </p:blipFill>
        <p:spPr>
          <a:xfrm>
            <a:off x="4716360" y="4508640"/>
            <a:ext cx="1746360" cy="15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0" y="260280"/>
            <a:ext cx="896472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494f5a"/>
                </a:solidFill>
                <a:latin typeface="Tahoma"/>
              </a:rPr>
              <a:t>Integracija događaja</a:t>
            </a:r>
            <a:endParaRPr b="1" lang="en-US" sz="4000" spc="-1" strike="noStrike">
              <a:solidFill>
                <a:srgbClr val="494f5a"/>
              </a:solidFill>
              <a:latin typeface="Tahoma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457200" y="1816200"/>
            <a:ext cx="822960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494f5a"/>
                </a:solidFill>
                <a:latin typeface="Tahoma"/>
              </a:rPr>
              <a:t>1. CILJ – dio procesa upravljanja poslovnim rizicima</a:t>
            </a:r>
            <a:endParaRPr b="1" lang="en-US" sz="3600" spc="-1" strike="noStrike">
              <a:solidFill>
                <a:srgbClr val="494f5a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11280" y="1868400"/>
            <a:ext cx="8075520" cy="42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94f5a"/>
                </a:solidFill>
                <a:latin typeface="Tahoma"/>
              </a:rPr>
              <a:t>ZAŠTITA KORISNIKA USLUGA</a:t>
            </a: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94f5a"/>
                </a:solidFill>
                <a:latin typeface="Tahoma"/>
              </a:rPr>
              <a:t>DJELATNIKA TVRTKE</a:t>
            </a: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94f5a"/>
                </a:solidFill>
                <a:latin typeface="Tahoma"/>
              </a:rPr>
              <a:t>IMOVINE U VLASNIŠTVU TVRTKE</a:t>
            </a: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94f5a"/>
                </a:solidFill>
                <a:latin typeface="Tahoma"/>
              </a:rPr>
              <a:t>ZAŠTITA INFORMACIJA</a:t>
            </a: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94f5a"/>
                </a:solidFill>
                <a:latin typeface="Tahoma"/>
              </a:rPr>
              <a:t>SPRJEČAVANJE KRIMINALNIH AKTIVNOSTI</a:t>
            </a: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94f5a"/>
                </a:solidFill>
                <a:latin typeface="Tahoma"/>
              </a:rPr>
              <a:t>MATERIJALNIH ŠTETA</a:t>
            </a: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94f5a"/>
                </a:solidFill>
                <a:latin typeface="Tahoma"/>
              </a:rPr>
              <a:t>BRIGA O REPUTACIJI TVRTKE</a:t>
            </a: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f5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5T10:25:19Z</dcterms:created>
  <dc:creator>dmatika</dc:creator>
  <dc:description/>
  <dc:language>en-US</dc:language>
  <cp:lastModifiedBy>Dejan Košutić</cp:lastModifiedBy>
  <dcterms:modified xsi:type="dcterms:W3CDTF">2008-10-28T22:45:22Z</dcterms:modified>
  <cp:revision>6</cp:revision>
  <dc:subject/>
  <dc:title>Slide 1</dc:title>
</cp:coreProperties>
</file>